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DB0-BFEA-472B-93D4-181E7C9531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DE8B-2CBF-41C3-AF32-5F783A7A9B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76B-FA70-48AD-8F7D-E6C2899386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C45F-6D8A-431B-A520-C8A5A2C5D2C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3D8-297B-4E2A-AE75-0F50D0AE45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BDB8-EC8D-4DD3-94EF-A25794FAFB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153-75D4-4B2F-90CF-FD68AFB8DB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08F9-4F98-43CD-B72E-32B8F84F2E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307-1BFF-4BA9-A102-FC16A424DC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C27F-D4BF-4B55-9123-B290CB3966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52A7-E251-48E1-9E86-AC88D03EF08A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6CE6-7199-4CEB-956C-5C8E3E85AA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BDB-AD9F-4EDA-A375-A2EB55D47D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713-A160-4D73-A39F-7A72430E09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F762-AE61-4493-A716-4F207527BF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8BD-E5B0-440A-B337-69DC1BD55E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0D6-1CA9-4E2F-A9CD-E0B88445C8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8CD-147C-4522-885D-1A9E7F4CC5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731-ED1F-4E90-8C0D-38C3B8C725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4399-0B23-46B5-9915-81E9A91340F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B1FE-1843-4D00-A9F4-B75824B139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456C-89D6-4775-92B9-CFE66B1EB25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1B2-0E7F-4307-B20A-1443714305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734-E17B-4F5A-BFF5-334F9C4AF9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715-079A-4DFC-B88A-838108FE9C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417C-BC66-4227-96BE-8903943A87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14EF-1B19-4BAE-90A2-B7F4506A4A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C065-5746-45D3-9EFC-BBF644CAC0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EC6D-DB13-4263-8417-D69513B42C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857B-EFB7-425A-BE86-98E768BE83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69C-07B4-4FB7-B1DC-D3BA38DE98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98D-DC9D-45BB-B8C1-FDB758EF5EEF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5F55-6C2C-47AD-8F01-8E0F945BCE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094B-81E0-4090-9365-D59654793E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9F80-5242-4977-B56D-71B681D47D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A47-321E-42C6-A32C-9D31483E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584-8DF7-4961-BEBD-FCDC83D2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AF0-9545-4242-A07F-B74F9E29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B8-9279-490D-AA0C-82A6E5AF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CB73-8AD0-40E8-934F-01056F71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6DD-F764-4B0C-BEA0-F9B2F5B2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18D0-F8D8-4A30-9806-C57803E0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6626-13FB-43F7-84BA-F600C11F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B809-9A1D-4929-8758-C417857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577-36FB-4286-ADE2-F1D4CE3E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F198-65BE-4767-B6E9-8774421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8B4-6538-4B28-8C31-9E464960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1FE6-97BE-4D5F-AD19-EFF0576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8EBE-61AC-48C2-ACE0-3D8EC0A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95E2-FD6D-4792-A102-05BEB07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65B-6F0F-48A5-926C-30D2C336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9833-32AF-4DEE-8AC3-38990A34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FF44-2CF2-4873-989F-D52B195D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64F3-084F-45DA-9F6B-B122BC73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13CA-B7EB-41E2-8639-119BACFF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517E-A774-4A04-BD4D-AC8C146E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4165-C2F6-4EFF-AA7D-76284B72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117-00FC-44CD-9311-C7C5A4C2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3687-4807-41DC-AAAF-54D19C8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9521-2DC7-4384-8D32-C4E1141B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CB40-5621-4D84-A515-8756FC1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47EC-5705-49E4-A2EE-B98EC39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9DDF-1B31-4733-ADD6-15297BB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67A8-EAC9-406D-8725-1B3E704B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E8BA-ACD5-48C7-A421-43E825B6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B8E-74C8-42F0-BD4B-7D49365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834-2338-455F-85FA-D79052B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CB8-22D3-4B37-AB7D-A84DD92F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579-2888-4BD7-9BCA-4E6D119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9EF-F242-43BD-A150-891D77F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226-79D0-4FE3-8DDC-E6796566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7FB9-9FE8-4F2C-934E-319BC4C53A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89F-64BA-46B4-8FE0-1E291ACA3C5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409-48AF-46E8-AF52-4EA46AD5D1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personale.ppt" TargetMode="External"/><Relationship Id="rId3" Type="http://schemas.openxmlformats.org/officeDocument/2006/relationships/hyperlink" Target="file:///laboratorio.ppt" TargetMode="External"/><Relationship Id="rId4" Type="http://schemas.openxmlformats.org/officeDocument/2006/relationships/hyperlink" Target="file:///documentazione.ppt" TargetMode="External"/><Relationship Id="rId5" Type="http://schemas.openxmlformats.org/officeDocument/2006/relationships/hyperlink" Target="file:///CQ.ppt" TargetMode="External"/><Relationship Id="rId6" Type="http://schemas.openxmlformats.org/officeDocument/2006/relationships/hyperlink" Target="file:///materie%20prime.ppt" TargetMode="External"/><Relationship Id="rId7" Type="http://schemas.openxmlformats.org/officeDocument/2006/relationships/hyperlink" Target="file:///attrezzature.ppt" TargetMode="External"/><Relationship Id="rId8" Type="http://schemas.openxmlformats.org/officeDocument/2006/relationships/hyperlink" Target="file:///TECNOLOGICHE.ppt" TargetMode="External"/><Relationship Id="rId9" Type="http://schemas.openxmlformats.org/officeDocument/2006/relationships/hyperlink" Target="file:///galenica%20ed%20informatica/Galenica_ed_Informatica_-_NBP.ppt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611280" y="2689200"/>
            <a:ext cx="8143920" cy="1373760"/>
          </a:xfrm>
          <a:prstGeom prst="rect">
            <a:avLst/>
          </a:prstGeom>
          <a:solidFill>
            <a:srgbClr val="ffe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Procedure Gestionali e Tecnologic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per il Laboratorio Galenico della Farma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4360" y="5457960"/>
            <a:ext cx="8172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P. Brusa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, F. Baratta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, P.P. Biancone</a:t>
            </a:r>
            <a:r>
              <a:rPr b="1" lang="it-IT" sz="20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baseline="30000">
                <a:solidFill>
                  <a:srgbClr val="333399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 Dipartimento di Scienza e Tecnologia del Farmaco dell’Università degli Studi di Torin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 Dipartimento di Management dell’Università degli Studi di Torin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5" descr="Logo università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754680" y="404640"/>
            <a:ext cx="1417680" cy="14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16286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68360" y="333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Arial"/>
              </a:rPr>
              <a:t>IL PERSONA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24000" y="142704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responsabile di ciascuna preparazione è un farmacist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l quale può fare eseguire, se le attività di preparazione sono significative nella farmacia,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parte delle OPERAZIONI PIÙ SEMPLICI E RIPETITIVE da </a:t>
            </a:r>
            <a:r>
              <a:rPr b="0" lang="it-IT" sz="2800" spc="-1" strike="noStrike" u="sng">
                <a:solidFill>
                  <a:srgbClr val="ff7619"/>
                </a:solidFill>
                <a:uFillTx/>
                <a:latin typeface="Arial"/>
              </a:rPr>
              <a:t>personale tecnico o tirocinante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, purché autorizzato e sotto la sua diretta supervisione e la sua responsabil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360" y="51465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ITI E RESPONSABILITÀ DEVONO ESSERE ATTRIBUITI 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IN MODO CHIAR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PER 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ISCRI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08000" y="189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</a:rPr>
              <a:t>CONTROLLO DI QUALITÀ DEL PREPAR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1035000"/>
            <a:ext cx="867564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qu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sicurez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l'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efficac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preparato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ipend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'uso corretto dei compon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i calcoli esegu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'accuratezza e dalla precisione delle pesate e dei volu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 rispetto dell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appropriate condizioni opera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66560" y="4005360"/>
            <a:ext cx="86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7619"/>
                </a:solidFill>
                <a:latin typeface="Arial"/>
              </a:rPr>
              <a:t>Controlli da effettuare sul prodotto fini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ifica del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rrettezza delle procedure esegu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ollo dell'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spe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ollo del confezionamento e in particolare del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tenu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ifica della corretta compilazione dell'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etichet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8000" y="216000"/>
            <a:ext cx="8748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ò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mplica che sia obbligatorio effettuar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l'insieme dei saggi di ciascuna monograf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nesso con il preparato per valutare la conformità alla Farmacop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sono essere infatti usati, al fine di controllo, </a:t>
            </a:r>
            <a:r>
              <a:rPr b="1" lang="it-IT" sz="2800" spc="-1" strike="noStrike">
                <a:solidFill>
                  <a:srgbClr val="ff7619"/>
                </a:solidFill>
                <a:latin typeface="Arial"/>
              </a:rPr>
              <a:t>metodi alternativi a condizione che permettano, senza equivoci, di decidere che le norme di Farmacopea sarebbero state soddisfatte qualora fossero stati usati i metodi ufficial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4863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Il controllo finale dovrà essere eseguito da una persona diversa da quella che ha effettuato la preparazion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sono ammessi contratti ester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08000" y="4941720"/>
            <a:ext cx="8893080" cy="136692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4920" y="13748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r le</a:t>
            </a: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 forme farmaceutiche a dose unica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trollar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0920" y="3084480"/>
            <a:ext cx="87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uniformità di massa: nessuna dose forma del campione dovrà discostarsi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10 % del peso me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7619"/>
                </a:solidFill>
                <a:latin typeface="Arial"/>
              </a:rPr>
              <a:t>nel caso delle capsule, il controllo dell'uniformità di massa si effettuerà sulle capsule pi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quantità o il numero di dosi forma da dispens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700360" y="47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195640" y="1413000"/>
            <a:ext cx="28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4920" y="115920"/>
            <a:ext cx="9109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6600"/>
                </a:solidFill>
                <a:latin typeface="Arial"/>
              </a:rPr>
              <a:t>10. STABILITÀ DEL PREPARA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Il farmacista nell'assegnazione della data limite per l'utilizzazione delle preparazioni da lui effettuate, oltre ai fattori connessi con la natura della preparazione e con la procedura della stessa, deve consultare ed applicare la pertinente documentazione e letteratura di carattere generale ed in particolare, se disponibile, quella concernente la singola e specifica preparazione in atto tenendo anche presente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-la natura delle sostanze ed i processi che possono indurre degradazione (fotosensibilità, termolabilità, ecc.)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-la natura del contenitore e le possibili interazioni contenitore-preparazione inclusi eventuali fenomeni di adsorbimento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-le previste condizioni di conservazione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-la compatibilità con gli eccipienti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-la possibile degradazione degli eccipienti stessi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-la durata della terapi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In assenza di informazioni sulla stabilità devono essere osservati, per preparati non sterili, i seguenti limiti di utilizzazione della preparazione stessa conservata nelle condizioni indicate in etichett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Formulazioni </a:t>
            </a:r>
            <a:r>
              <a:rPr b="1" i="1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solide, liquide non acquose o con un contenuto alcoolico non inferiore al 25 per c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Non oltre il 25 per cento del più breve periodo di validità dei componenti utilizzati; tale periodo non pu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comunque superare i </a:t>
            </a:r>
            <a:r>
              <a:rPr b="1" i="1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6 mesi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Per tutte le altre formulazion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Utilizzare entro </a:t>
            </a:r>
            <a:r>
              <a:rPr b="1" i="1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30 giorni</a:t>
            </a: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 dalla data di preparazione. Questo limite deve essere ridotto o può essere superato solo sulla base di specifiche conoscenze ed accorgimenti connessi con la contaminazione microbica del preparato e con le caratteristiche chimico-fisiche dei suoi componenti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Anche per quanto riguarda la stabilità dei prodotti sterili il farmacista, oltre a quanto riportato nel capitol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1. Aspetti microbiologici dei preparati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, deve fare riferimento, se disponibile, a documentazione e letteratura concernente la singola specifica preparazione. Nei casi di assenza di informazioni il preparato deve essere utilizzato entro 30 giorni dalla data di preparazion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16000" y="966960"/>
            <a:ext cx="8748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Nel caso in cui la farmacia aperta al pubblico, </a:t>
            </a:r>
            <a:r>
              <a:rPr b="0" lang="it-IT" sz="3400" spc="-1" strike="noStrike" u="sng">
                <a:solidFill>
                  <a:srgbClr val="000000"/>
                </a:solidFill>
                <a:uFillTx/>
                <a:latin typeface="Arial"/>
              </a:rPr>
              <a:t>pur dotata di adeguato laboratorio, non possieda le attrezzature necessarie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per eseguire una specifica preparazione (compresse, capsule, fiale o altre preparazioni sterili ecc..) deve fornire </a:t>
            </a:r>
            <a:r>
              <a:rPr b="1" lang="it-IT" sz="3400" spc="-1" strike="noStrike">
                <a:solidFill>
                  <a:srgbClr val="0000ff"/>
                </a:solidFill>
                <a:latin typeface="Arial"/>
              </a:rPr>
              <a:t>indicazioni sulle farmacie più vicine attrezzate per eseguire la specifica preparazione richiest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68360" y="260280"/>
            <a:ext cx="828036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BP vs D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AMPO DI APPLIC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PPARECCHI E UTENSIL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ATERIE PR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OPERAZIONI DI PREPAR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TICHET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FEZIONAMEN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OCUMENTAZIONE IN FARMAC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844720" y="333360"/>
            <a:ext cx="3527640" cy="72072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28120" y="189000"/>
            <a:ext cx="3899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7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CAMPO DI APPL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dure ch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EV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sere osservate dalle farmacie che allestisco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eparati officinali </a:t>
            </a:r>
            <a:r>
              <a:rPr b="0" lang="it-IT" sz="2400" spc="-1" strike="noStrike" u="sng">
                <a:solidFill>
                  <a:srgbClr val="cc0099"/>
                </a:solidFill>
                <a:uFillTx/>
                <a:latin typeface="Arial"/>
              </a:rPr>
              <a:t>non steril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 su scala ridotta e preparati magistrali non ster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CAMPO DI APPL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armacia che esegue preparat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officinali non sterili su scala ridotta e preparati magistrali non sterili può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OSTARSI IN P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parazioni </a:t>
            </a:r>
            <a:r>
              <a:rPr b="0" lang="it-IT" sz="2400" spc="-1" strike="noStrike" u="sng">
                <a:solidFill>
                  <a:srgbClr val="cc0099"/>
                </a:solidFill>
                <a:uFillTx/>
                <a:latin typeface="Arial"/>
              </a:rPr>
              <a:t>STERI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 OBBLIGATORIAMENTE N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705200" y="189000"/>
            <a:ext cx="389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8120" y="44280"/>
            <a:ext cx="3899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IL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area del laboratorio deve essere </a:t>
            </a: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SEPARA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d anche </a:t>
            </a: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NON SEPARA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NON SEPARABI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 altro locale della farm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'area di lavoro non separata o non separabile le preparazioni devono essere effettuate durante </a:t>
            </a: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l'ORARIO DI CHIUS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atti salvi i casi di </a:t>
            </a: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U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IL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zona destinata alla preparazione deve essere </a:t>
            </a:r>
            <a:r>
              <a:rPr b="0" lang="it-IT" sz="2400" spc="-1" strike="noStrike">
                <a:solidFill>
                  <a:srgbClr val="cc0099"/>
                </a:solidFill>
                <a:latin typeface="Arial"/>
              </a:rPr>
              <a:t>SEPARA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deve avere la POSSIBILITÀ DI ESSERE ISOLATA mediante una funzionale compartimentazione che ne impedisca l'attraver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05200" y="44280"/>
            <a:ext cx="3899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609300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ff"/>
                </a:solidFill>
                <a:latin typeface="Arial"/>
              </a:rPr>
              <a:t>Durante la preparazione </a:t>
            </a:r>
            <a:r>
              <a:rPr b="0" lang="it-IT" sz="2300" spc="-1" strike="noStrike" u="sng">
                <a:solidFill>
                  <a:srgbClr val="0000ff"/>
                </a:solidFill>
                <a:uFillTx/>
                <a:latin typeface="Arial"/>
              </a:rPr>
              <a:t>accesso controllato e riservato al persona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4500720" y="915840"/>
            <a:ext cx="4500360" cy="54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IL LABORATO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PARE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SOFFIT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PAVIMEN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teriale non poroso, preferibilmente liscio, resistente e non sgretolabile, privo di parti che perdono il rivestimento, capace di sopportare l'acqua calda e i deterge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ulizia secondo procedure scrit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PIANO DI LAVOR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teriale inerte, resistente, di facile puliz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CONDIZIONI AMBIENTAL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propriate e tali da non esercitare effetti negativi sulla preparazione dei medicinali e sul corretto funzionamento delle apparecchiat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necessario, le condizioni ambientali devono poter essere controllate per adattarle alle varie esigenz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LIBERO DA INFESTA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SICUREZ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strutture presenti devono essere conformi alla vigente normativa sotto il profilo della sicurezz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SAQ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laboratorio dovrebbe poter disporre di gruppi di continuità elettrica allo scopo di assicurare in condizioni di emergenza il continuo funzionamento di apparecchi che hanno un impatto sulla qualità della preparazio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24000" y="262080"/>
            <a:ext cx="36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653080" y="260280"/>
            <a:ext cx="246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95280" y="3110040"/>
            <a:ext cx="316872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IL LABORATO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99"/>
                </a:solidFill>
                <a:latin typeface="Arial"/>
              </a:rPr>
              <a:t>PARE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400" spc="-1" strike="noStrike">
                <a:solidFill>
                  <a:srgbClr val="cc0099"/>
                </a:solidFill>
                <a:latin typeface="Arial"/>
              </a:rPr>
              <a:t>SOFFIT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vabil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34"/>
          <p:cNvSpPr/>
          <p:nvPr/>
        </p:nvSpPr>
        <p:spPr>
          <a:xfrm>
            <a:off x="2914560" y="3978360"/>
            <a:ext cx="3889440" cy="1149120"/>
          </a:xfrm>
          <a:custGeom>
            <a:avLst/>
            <a:gdLst>
              <a:gd name="textAreaLeft" fmla="*/ 887760 w 3889440"/>
              <a:gd name="textAreaRight" fmla="*/ 3001680 w 3889440"/>
              <a:gd name="textAreaTop" fmla="*/ 262080 h 1149120"/>
              <a:gd name="textAreaBottom" fmla="*/ 887040 h 11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33"/>
          <p:cNvSpPr/>
          <p:nvPr/>
        </p:nvSpPr>
        <p:spPr>
          <a:xfrm>
            <a:off x="5003640" y="44280"/>
            <a:ext cx="12970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1979640" y="351000"/>
            <a:ext cx="47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7619"/>
                </a:solidFill>
                <a:latin typeface="Arial"/>
              </a:rPr>
              <a:t>2002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     FU XI          </a:t>
            </a:r>
            <a:r>
              <a:rPr b="1" lang="it-IT" sz="2600" spc="-1" strike="noStrike">
                <a:solidFill>
                  <a:srgbClr val="ff7619"/>
                </a:solidFill>
                <a:latin typeface="Arial"/>
              </a:rPr>
              <a:t>NB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324000" y="3284640"/>
            <a:ext cx="8569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TRATA IN VIGORE 01/01/2003,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ROCRASTINAT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FINO AL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15/01/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2916360" y="49356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4500720" y="49356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ttangolo 6"/>
          <p:cNvSpPr/>
          <p:nvPr/>
        </p:nvSpPr>
        <p:spPr>
          <a:xfrm>
            <a:off x="141120" y="1819440"/>
            <a:ext cx="8751960" cy="112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8000" y="2073240"/>
            <a:ext cx="8785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LABORATORI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,  obbligatoriament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eparato o separabi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 dal resto della farma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CONTROLLO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sulla preparazione eseguito da un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armacista divers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 da quello che ha allestito il medicina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PROCEDURE: accreditate dalla FOFI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643280" y="1574640"/>
            <a:ext cx="1900440" cy="46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7619"/>
                </a:solidFill>
                <a:latin typeface="Tahoma"/>
                <a:ea typeface="Tahoma"/>
              </a:rPr>
              <a:t>CRITIC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31"/>
          <p:cNvSpPr/>
          <p:nvPr/>
        </p:nvSpPr>
        <p:spPr>
          <a:xfrm>
            <a:off x="5435640" y="2682720"/>
            <a:ext cx="358560" cy="574920"/>
          </a:xfrm>
          <a:prstGeom prst="downArrow">
            <a:avLst>
              <a:gd name="adj1" fmla="val 50000"/>
              <a:gd name="adj2" fmla="val 400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3562200" y="42642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DM 18/11/20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38"/>
          <p:cNvSpPr/>
          <p:nvPr/>
        </p:nvSpPr>
        <p:spPr>
          <a:xfrm flipV="1" rot="18328200">
            <a:off x="6838560" y="3582360"/>
            <a:ext cx="1297080" cy="934920"/>
          </a:xfrm>
          <a:custGeom>
            <a:avLst/>
            <a:gdLst>
              <a:gd name="textAreaLeft" fmla="*/ 746280 w 1297080"/>
              <a:gd name="textAreaRight" fmla="*/ 1157040 w 1297080"/>
              <a:gd name="textAreaTop" fmla="*/ 189720 h 934920"/>
              <a:gd name="textAreaBottom" fmla="*/ 3362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208" y="0"/>
                </a:lnTo>
                <a:lnTo>
                  <a:pt x="13208" y="4388"/>
                </a:lnTo>
                <a:lnTo>
                  <a:pt x="12427" y="4388"/>
                </a:lnTo>
                <a:cubicBezTo>
                  <a:pt x="5564" y="4388"/>
                  <a:pt x="0" y="7867"/>
                  <a:pt x="0" y="12158"/>
                </a:cubicBezTo>
                <a:lnTo>
                  <a:pt x="0" y="21600"/>
                </a:lnTo>
                <a:lnTo>
                  <a:pt x="3457" y="21600"/>
                </a:lnTo>
                <a:lnTo>
                  <a:pt x="3457" y="12158"/>
                </a:lnTo>
                <a:cubicBezTo>
                  <a:pt x="3457" y="9735"/>
                  <a:pt x="7473" y="7770"/>
                  <a:pt x="12427" y="7770"/>
                </a:cubicBezTo>
                <a:lnTo>
                  <a:pt x="13208" y="7770"/>
                </a:lnTo>
                <a:lnTo>
                  <a:pt x="1320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5435640" y="1027080"/>
            <a:ext cx="358560" cy="574560"/>
          </a:xfrm>
          <a:prstGeom prst="downArrow">
            <a:avLst>
              <a:gd name="adj1" fmla="val 50000"/>
              <a:gd name="adj2" fmla="val 400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2700360" y="5764320"/>
            <a:ext cx="45356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NBP, DM O ENTRAMB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8120" y="189000"/>
            <a:ext cx="3899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APPARECCHI E UTENS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esser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quelli obbligatori PREVISTI dalla TAB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FRIGORIFE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ve essere adeguatamente PULI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strumenti di misu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vono essere periodicamente e regolarmente VERIFICATI ai sensi del decreto legislativo 29 dicembre 1992, n. 517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decreto parla solo di bilan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APPARECCHI E UTENS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ltre quello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minim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isto dalla Tabella n. 6 della FU, devono esser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ADEGUAT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numero ed alla natura delle preparazioni abitualmente eseg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PROCEDURE SCRIT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iguar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ulizi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u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troll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tru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ddest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705200" y="189000"/>
            <a:ext cx="389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1990800" y="53020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33360" y="5661000"/>
            <a:ext cx="3745080" cy="647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8120" y="115560"/>
            <a:ext cx="3899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240" y="934560"/>
            <a:ext cx="42800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MATERIE 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ttenere dal fornitore una dichiarazione di conformità all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NORME BREVETTU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taliane delle materie prime cedu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CONFE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umero progress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a primo 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a ultimo 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CERTIFICATO di ANALIS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umero progress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a ric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rvare il 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FLACONE  vuoto per sei mesi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9079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MATERIE 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el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e materie prime deve essere basata sulla CONOSCENZA DELLA QUALITÀ delle stesse            e  DELLA QUALITÀ DELLA LORO FONTE DI APPROVVIGIONAMENTO cioè è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richiesta la qualificazione del forni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armacista deve CONTROLLARE LA QUALITÀ delle materie prime e la loro idoneità prima di utilizzarle, oppure può ACCETTARE LA CERTIFICAZIONE DELLA DITTA PRODUTTRICE ma deve comunque verificare l'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ident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o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stato di conserv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a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data limite di utilizz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ogni materia p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ROGHE VEGE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oro requisiti per l'ingresso nella farm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705200" y="189000"/>
            <a:ext cx="3899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836720" y="5516640"/>
            <a:ext cx="1295280" cy="360360"/>
          </a:xfrm>
          <a:prstGeom prst="rect">
            <a:avLst/>
          </a:prstGeom>
          <a:noFill/>
          <a:ln w="316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8120" y="115560"/>
            <a:ext cx="38991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42480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OPERAZIONI DI PREPA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prepara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fficin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mpilare il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FOGLIO DI LAVOR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allegato 1): molto sc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prepara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gistr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pporre sulla copia della ricetta, se ripetibile, o sull’originale, se non ripetibile,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COPIA DELL'ETICHET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 riportare sulla ricetta tutti i dati presenti in etichet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764640"/>
            <a:ext cx="4495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OPERAZIONI DI PREPA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rante l'allestimento della preparazione devono essere seguit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PROCEDURE SCITTE DETTAGL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preparazione devono essere compilati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FOGLI DI LAVORAZIONE DETTAGLI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cui devono essere riportate 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tanze utilizz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operazioni esegui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eventua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osservazio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prepa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 preparazion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non devono essere interrotte per assolvere altr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esso operator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non deve seguire in contemporanea operazioni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705200" y="115920"/>
            <a:ext cx="3899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VERIFICARE SPEDIBILITÀ DELLA RICETTA E POSSIBILITÀ DI ALLESTIRE LA PREPAR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50920" y="802080"/>
            <a:ext cx="3529080" cy="522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egato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GLIO DI LAVORAZIO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tolo della preparazio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o progress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ità totale allestita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stanze                  Quantit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o di validit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ma del preparator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1"/>
          <a:stretch/>
        </p:blipFill>
        <p:spPr>
          <a:xfrm>
            <a:off x="6054840" y="836640"/>
            <a:ext cx="2981160" cy="3600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34920" y="115920"/>
            <a:ext cx="389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065560" y="260280"/>
            <a:ext cx="3899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4362480" y="2924280"/>
            <a:ext cx="30891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8120" y="43920"/>
            <a:ext cx="3899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720" y="549000"/>
            <a:ext cx="460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TICH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o progressivo della pr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del medico (prep. magistr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del paziente (prep. magistr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 di pr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Composizione QUALI-QUANTITATIVA dei principi attivi e degli eccip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 limite di util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ertenze e precau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00360" y="693720"/>
            <a:ext cx="471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TICH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Nome, indirizzo e numero telefonico della 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o progressivo della pr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del medico (prep. magistr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del paziente (prep. magistr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itolo della monografia (prep. offici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 di pr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Composizione QUALI-QUANTITATIVA dei principi attivi e QUALITATIVA di tutti gli eccipienti impiegati; nel caso di preparazioni iniettabili la composizione quali-quantitativa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Quantità e/o numero di dosi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 componenti, incluse le droghe vegetali, devono essere indicati con la denominazione co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 limite di utilizz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ertenze e precauzioni (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nche con pittogramm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705200" y="115920"/>
            <a:ext cx="3899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50920" y="501336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e manca lo spazio sull'etichetta avvertenze e precauzioni su una seconda etichetta o su un foglio a par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1692360" y="422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3924360" y="5805360"/>
            <a:ext cx="576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50920" y="4941720"/>
            <a:ext cx="360036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716360" y="1197000"/>
            <a:ext cx="4248360" cy="576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9" descr=""/>
          <p:cNvPicPr/>
          <p:nvPr/>
        </p:nvPicPr>
        <p:blipFill>
          <a:blip r:embed="rId1"/>
          <a:stretch/>
        </p:blipFill>
        <p:spPr>
          <a:xfrm>
            <a:off x="108000" y="574560"/>
            <a:ext cx="5940360" cy="5662800"/>
          </a:xfrm>
          <a:prstGeom prst="rect">
            <a:avLst/>
          </a:prstGeom>
          <a:ln w="0">
            <a:noFill/>
          </a:ln>
        </p:spPr>
      </p:pic>
      <p:sp>
        <p:nvSpPr>
          <p:cNvPr id="239" name="Rettangolo 33"/>
          <p:cNvSpPr/>
          <p:nvPr/>
        </p:nvSpPr>
        <p:spPr>
          <a:xfrm>
            <a:off x="6108840" y="1662120"/>
            <a:ext cx="2857320" cy="423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base alla tipologia della preparazione (ad esempio, semisolida per applicazione cutanea), secondo quanto indicato al punto 10 di NBP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a data limite di utilizzo dovrebbe essere 30 giorn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lla data di allestimento; si ritiene però che,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in relazione a quanto previsto in NBP, la durata possa essere estesa ad un periodo di 6 mesi in funzione della conoscenza delle stabilità chimico-fisica e microbiologica del prepara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Callout con freccia a destra 32"/>
          <p:cNvSpPr/>
          <p:nvPr/>
        </p:nvSpPr>
        <p:spPr>
          <a:xfrm>
            <a:off x="3965400" y="4575240"/>
            <a:ext cx="2214720" cy="500040"/>
          </a:xfrm>
          <a:prstGeom prst="rightArrowCallout">
            <a:avLst>
              <a:gd name="adj1" fmla="val 30901"/>
              <a:gd name="adj2" fmla="val 25000"/>
              <a:gd name="adj3" fmla="val 24996"/>
              <a:gd name="adj4" fmla="val 6034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CasellaDiTesto 34"/>
          <p:cNvSpPr/>
          <p:nvPr/>
        </p:nvSpPr>
        <p:spPr>
          <a:xfrm>
            <a:off x="4037040" y="4646520"/>
            <a:ext cx="12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0000"/>
                </a:solidFill>
                <a:latin typeface="Tahoma"/>
              </a:rPr>
              <a:t>23/07/2009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CasellaDiTesto 35"/>
          <p:cNvSpPr/>
          <p:nvPr/>
        </p:nvSpPr>
        <p:spPr>
          <a:xfrm>
            <a:off x="3322800" y="2022480"/>
            <a:ext cx="2357280" cy="337320"/>
          </a:xfrm>
          <a:prstGeom prst="rect">
            <a:avLst/>
          </a:prstGeom>
          <a:solidFill>
            <a:srgbClr val="ffe5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ITOLO MONOGRAF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CasellaDiTesto 36"/>
          <p:cNvSpPr/>
          <p:nvPr/>
        </p:nvSpPr>
        <p:spPr>
          <a:xfrm>
            <a:off x="2965320" y="407520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OT €  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7,7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697800" y="620640"/>
            <a:ext cx="21002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e 9"/>
          <p:cNvSpPr/>
          <p:nvPr/>
        </p:nvSpPr>
        <p:spPr>
          <a:xfrm>
            <a:off x="3537000" y="1785960"/>
            <a:ext cx="1428840" cy="9288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CasellaDiTesto 10"/>
          <p:cNvSpPr/>
          <p:nvPr/>
        </p:nvSpPr>
        <p:spPr>
          <a:xfrm>
            <a:off x="3608280" y="2692440"/>
            <a:ext cx="23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ahoma"/>
              </a:rPr>
              <a:t>PER PREP. MAGISTRAL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e 9"/>
          <p:cNvSpPr/>
          <p:nvPr/>
        </p:nvSpPr>
        <p:spPr>
          <a:xfrm>
            <a:off x="1728720" y="335772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9" descr=""/>
          <p:cNvPicPr/>
          <p:nvPr/>
        </p:nvPicPr>
        <p:blipFill>
          <a:blip r:embed="rId1"/>
          <a:stretch/>
        </p:blipFill>
        <p:spPr>
          <a:xfrm>
            <a:off x="108000" y="574560"/>
            <a:ext cx="5940360" cy="5662800"/>
          </a:xfrm>
          <a:prstGeom prst="rect">
            <a:avLst/>
          </a:prstGeom>
          <a:ln w="0">
            <a:noFill/>
          </a:ln>
        </p:spPr>
      </p:pic>
      <p:sp>
        <p:nvSpPr>
          <p:cNvPr id="249" name="Rettangolo 33"/>
          <p:cNvSpPr/>
          <p:nvPr/>
        </p:nvSpPr>
        <p:spPr>
          <a:xfrm>
            <a:off x="6108840" y="1662120"/>
            <a:ext cx="2857320" cy="423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base alla tipologia della preparazione (ad esempio, semisolida per applicazione cutanea), secondo quanto indicato al punto 10 di NBP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a data limite di utilizzo dovrebbe essere 30 giorn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lla data di allestimento; si ritiene però che,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in relazione a quanto previsto in NBP, la durata possa essere estesa ad un periodo di 6 mesi in funzione della conoscenza delle stabilità chimico-fisica e microbiologica del prepara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CasellaDiTesto 36"/>
          <p:cNvSpPr/>
          <p:nvPr/>
        </p:nvSpPr>
        <p:spPr>
          <a:xfrm>
            <a:off x="2965320" y="407520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OT €  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7,7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179280" y="646200"/>
            <a:ext cx="5832720" cy="4500360"/>
          </a:xfrm>
          <a:prstGeom prst="rect">
            <a:avLst/>
          </a:prstGeom>
          <a:ln w="0">
            <a:noFill/>
          </a:ln>
        </p:spPr>
      </p:pic>
      <p:sp>
        <p:nvSpPr>
          <p:cNvPr id="252" name="Callout con freccia a destra 32"/>
          <p:cNvSpPr/>
          <p:nvPr/>
        </p:nvSpPr>
        <p:spPr>
          <a:xfrm>
            <a:off x="3965400" y="4718160"/>
            <a:ext cx="2214720" cy="500040"/>
          </a:xfrm>
          <a:prstGeom prst="rightArrowCallout">
            <a:avLst>
              <a:gd name="adj1" fmla="val 30901"/>
              <a:gd name="adj2" fmla="val 25000"/>
              <a:gd name="adj3" fmla="val 24996"/>
              <a:gd name="adj4" fmla="val 6034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CasellaDiTesto 34"/>
          <p:cNvSpPr/>
          <p:nvPr/>
        </p:nvSpPr>
        <p:spPr>
          <a:xfrm>
            <a:off x="4037040" y="4797360"/>
            <a:ext cx="12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0000"/>
                </a:solidFill>
                <a:latin typeface="Tahoma"/>
              </a:rPr>
              <a:t>23/07/2009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372360" y="549360"/>
            <a:ext cx="24127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e 9"/>
          <p:cNvSpPr/>
          <p:nvPr/>
        </p:nvSpPr>
        <p:spPr>
          <a:xfrm>
            <a:off x="1801800" y="3284640"/>
            <a:ext cx="9255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8120" y="189000"/>
            <a:ext cx="3899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FEZ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ttenere dal fornitore il certificato comprovant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la CONFORMITÀ alla F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i contenitori primari utilizz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89200" y="1267920"/>
            <a:ext cx="4330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FEZ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IDONE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le caratteristiche della preparazione e in grado di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GARANTIRE LA QU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preparato per tutto il suo periodo di valid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e poter esser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utilizzato con facilità da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necessario, una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chiusura a prova di bam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e essere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PULITO PRIMA DELL'UTILIZZ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econdo un programma che preveda anche il risciacquo con acqua deionizzata, l'asciugatura e, se richiesto, la disinfezione e l'eventuale sterilizz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705200" y="189000"/>
            <a:ext cx="389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468360" y="44280"/>
            <a:ext cx="389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3080" y="98064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LOC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deguate istruzioni per la puli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ATTREZZA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deguate istruzioni per la puli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ATERIE PR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enom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quantità acquis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ata di arr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nome del prod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entuale numero di riferiment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ertificato di analisi che riporti la rispondenza a F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11280" y="846000"/>
            <a:ext cx="504036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base a quanto prescritto dal SAQ sono necessarie </a:t>
            </a:r>
            <a:r>
              <a:rPr b="0" lang="it-IT" sz="1800" spc="-1" strike="noStrike" u="sng">
                <a:solidFill>
                  <a:srgbClr val="cc0099"/>
                </a:solidFill>
                <a:uFillTx/>
                <a:latin typeface="Arial"/>
              </a:rPr>
              <a:t>PROCEDURE SCRITTE</a:t>
            </a:r>
            <a:r>
              <a:rPr b="0" lang="it-IT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ttagliate riguar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LOC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donei e pul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cc0099"/>
                </a:solidFill>
                <a:latin typeface="Arial"/>
              </a:rPr>
              <a:t>ATTREZZA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manutenzione e puli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ATERIE PR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enom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quantità acquis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ata di arr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nome del prod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eventuale numero di riferiment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ertificato di analisi che riporti la rispondenza a 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 u="sng">
                <a:solidFill>
                  <a:srgbClr val="ff3300"/>
                </a:solidFill>
                <a:uFillTx/>
                <a:latin typeface="Arial"/>
              </a:rPr>
              <a:t>tipo e risultati degli eventuali controlli eseguiti dal farmac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 u="sng">
                <a:solidFill>
                  <a:srgbClr val="ff3300"/>
                </a:solidFill>
                <a:uFillTx/>
                <a:latin typeface="Arial"/>
              </a:rPr>
              <a:t>accettazione o rifiuto per l'utilizzazione nella preparazione, datata e firmata dal farmacista respons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713560" y="44280"/>
            <a:ext cx="3898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276720" y="4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DOCUMENT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468360" y="188640"/>
            <a:ext cx="3898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Arial"/>
              </a:rPr>
              <a:t>DM 18/11/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564000" y="1234800"/>
            <a:ext cx="57592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PARATI MAGISTRALI E OFFICIN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cc0099"/>
                </a:solidFill>
                <a:latin typeface="Arial"/>
              </a:rPr>
              <a:t>composizione quali-quantitativa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ata di allestimento e di limite di 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umero d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ot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e sostanze us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riferimento alle procedure 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contenitore util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vvert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ome e firma del prepa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isultati dei controlli di qu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ccettazione o rifiuto della prepa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ome paziente (per formule magistr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ome medico (per formule magistr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ome della preparazione (per formule officin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consistenza numerica (per formule officin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713560" y="189000"/>
            <a:ext cx="3898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Arial"/>
              </a:rPr>
              <a:t>NBP FU X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276720" y="46980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DOCUMENT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-42840" y="19267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gli di lavo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laconi vuo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rtificati di anal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 rot="16200000">
            <a:off x="2236320" y="22431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rvare sei me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2556000" y="1916280"/>
            <a:ext cx="144360" cy="1441440"/>
          </a:xfrm>
          <a:custGeom>
            <a:avLst/>
            <a:gdLst>
              <a:gd name="textAreaLeft" fmla="*/ 0 w 144360"/>
              <a:gd name="textAreaRight" fmla="*/ 5220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79280" y="3789360"/>
            <a:ext cx="35290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99"/>
                </a:solidFill>
                <a:latin typeface="Arial"/>
              </a:rPr>
              <a:t>CONFEZIONE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mero progressiv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primo utilizz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ultimo utiliz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99"/>
                </a:solidFill>
                <a:latin typeface="Arial"/>
              </a:rPr>
              <a:t>CERTIFICATO di ANALISI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mero progressiv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rice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2920" y="457200"/>
            <a:ext cx="8893080" cy="8863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DM 22/06/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di allestimento in farmacia di preparazioni magistrali e officinali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08000" y="1814400"/>
            <a:ext cx="88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.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farmacie pubbliche e private aperte al pubblico e le farmacie interne ospedaliere che allestiscono preparati officinali </a:t>
            </a:r>
            <a:r>
              <a:rPr b="1" lang="it-IT" sz="2000" spc="-1" strike="noStrike">
                <a:solidFill>
                  <a:srgbClr val="ff7619"/>
                </a:solidFill>
                <a:latin typeface="Arial"/>
              </a:rPr>
              <a:t>non steri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 scala ridotta e preparati magistrali </a:t>
            </a:r>
            <a:r>
              <a:rPr b="1" lang="it-IT" sz="2000" spc="-1" strike="noStrike">
                <a:solidFill>
                  <a:srgbClr val="ff7619"/>
                </a:solidFill>
                <a:latin typeface="Arial"/>
              </a:rPr>
              <a:t>non steri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ossono seguire </a:t>
            </a:r>
            <a:r>
              <a:rPr b="1" lang="it-IT" sz="2000" spc="-1" strike="noStrike" u="sng">
                <a:solidFill>
                  <a:srgbClr val="ff7619"/>
                </a:solidFill>
                <a:uFillTx/>
                <a:latin typeface="Arial"/>
              </a:rPr>
              <a:t>in alternat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le prescrizioni contenute nel decreto ministeriale 18 novembre 2003…le Norme di buona preparazione dei medicinali in farmacia contenute nella vigente edizione della Farmacopea ufficiale della Repubblica italiana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.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sta fermo l’</a:t>
            </a:r>
            <a:r>
              <a:rPr b="1" lang="it-IT" sz="2000" spc="-1" strike="noStrike" u="sng">
                <a:solidFill>
                  <a:srgbClr val="cc0099"/>
                </a:solidFill>
                <a:uFillTx/>
                <a:latin typeface="Arial"/>
              </a:rPr>
              <a:t>obblig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osservare le </a:t>
            </a: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norme di buona prepar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i medicinali in farmacia…per i preparati officinali e magistrali </a:t>
            </a: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steri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per le preparazioni che devono essere manipolate in apposite e dedicate cappe biologiche di sicurezza, quali preparat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tossici, antitumorali, radiofarma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628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l farmacista può decidere, grazie al DM 22/06/05, di gestire l’attività di laboratorio secondo quanto dettato 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28191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9900"/>
                </a:solidFill>
                <a:uFillTx/>
                <a:latin typeface="Arial"/>
              </a:rPr>
              <a:t>N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9900"/>
                </a:solidFill>
                <a:uFillTx/>
                <a:latin typeface="Arial"/>
              </a:rPr>
              <a:t>FU X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895480"/>
            <a:ext cx="403848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9900"/>
                </a:solidFill>
                <a:uFillTx/>
                <a:latin typeface="Arial"/>
              </a:rPr>
              <a:t>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r>
              <a:rPr b="1" lang="it-IT" sz="4400" spc="-1" strike="noStrike" u="sng">
                <a:solidFill>
                  <a:srgbClr val="ff9900"/>
                </a:solidFill>
                <a:uFillTx/>
                <a:latin typeface="Arial"/>
              </a:rPr>
              <a:t>18/11/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4571640"/>
            <a:ext cx="3733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guite sia da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lestisce gale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steril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non ster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4571640"/>
            <a:ext cx="40384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guito da chi allestisce galenici </a:t>
            </a: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non ster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 rot="13355400">
            <a:off x="3803400" y="1628280"/>
            <a:ext cx="1776240" cy="1611360"/>
          </a:xfrm>
          <a:custGeom>
            <a:avLst/>
            <a:gdLst>
              <a:gd name="textAreaLeft" fmla="*/ 108360 w 1776240"/>
              <a:gd name="textAreaRight" fmla="*/ 1404720 w 1776240"/>
              <a:gd name="textAreaTop" fmla="*/ 1027800 h 1611360"/>
              <a:gd name="textAreaBottom" fmla="*/ 1274400 h 1611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4926"/>
                </a:lnTo>
                <a:lnTo>
                  <a:pt x="13776" y="4926"/>
                </a:lnTo>
                <a:lnTo>
                  <a:pt x="13776" y="13776"/>
                </a:lnTo>
                <a:lnTo>
                  <a:pt x="4926" y="13776"/>
                </a:lnTo>
                <a:lnTo>
                  <a:pt x="4926" y="9257"/>
                </a:lnTo>
                <a:lnTo>
                  <a:pt x="0" y="15429"/>
                </a:lnTo>
                <a:lnTo>
                  <a:pt x="4926" y="21600"/>
                </a:lnTo>
                <a:lnTo>
                  <a:pt x="4926" y="17081"/>
                </a:lnTo>
                <a:lnTo>
                  <a:pt x="17081" y="17081"/>
                </a:lnTo>
                <a:lnTo>
                  <a:pt x="17081" y="4926"/>
                </a:lnTo>
                <a:lnTo>
                  <a:pt x="21600" y="4926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ttangolo 2"/>
          <p:cNvSpPr/>
          <p:nvPr/>
        </p:nvSpPr>
        <p:spPr>
          <a:xfrm>
            <a:off x="179280" y="1082520"/>
            <a:ext cx="8713800" cy="192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3457440" y="836640"/>
            <a:ext cx="1900440" cy="46044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CRITIC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ttangolo 5"/>
          <p:cNvSpPr/>
          <p:nvPr/>
        </p:nvSpPr>
        <p:spPr>
          <a:xfrm>
            <a:off x="214200" y="4532400"/>
            <a:ext cx="8783640" cy="1633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3600360" y="4286160"/>
            <a:ext cx="1900440" cy="46044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CRITIC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6316200" y="2781360"/>
            <a:ext cx="92916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NB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7683120" y="5805360"/>
            <a:ext cx="7322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395280" y="4778280"/>
            <a:ext cx="849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è obbligatorio il controllo su tutte l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PARECCHIA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è obbligatorio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ROLLO DI QUALIT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ui medicinali allesti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NON SONO OBBLIGATORIE PROCEDURE SCRIT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216000" y="1365120"/>
            <a:ext cx="86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BORATOR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 obbligatoriament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eparato o separabi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al resto della farma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ROLL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lla preparazione eseguito da un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farmacista dive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a quello che ha allestito il medicin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CEDURE: accreditate dalla FOF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tella a 12 punte 17"/>
          <p:cNvSpPr/>
          <p:nvPr/>
        </p:nvSpPr>
        <p:spPr>
          <a:xfrm>
            <a:off x="3214800" y="2144880"/>
            <a:ext cx="1214280" cy="927000"/>
          </a:xfrm>
          <a:custGeom>
            <a:avLst/>
            <a:gdLst>
              <a:gd name="textAreaLeft" fmla="*/ 285120 w 1214280"/>
              <a:gd name="textAreaRight" fmla="*/ 929160 w 1214280"/>
              <a:gd name="textAreaTop" fmla="*/ 217440 h 927000"/>
              <a:gd name="textAreaBottom" fmla="*/ 709560 h 927000"/>
            </a:gdLst>
            <a:ahLst/>
            <a:rect l="textAreaLeft" t="textAreaTop" r="textAreaRight" b="textAreaBottom"/>
            <a:pathLst>
              <a:path w="1214437" h="927100">
                <a:moveTo>
                  <a:pt x="0" y="463550"/>
                </a:moveTo>
                <a:lnTo>
                  <a:pt x="167322" y="373568"/>
                </a:lnTo>
                <a:lnTo>
                  <a:pt x="81352" y="231775"/>
                </a:lnTo>
                <a:lnTo>
                  <a:pt x="285192" y="217715"/>
                </a:lnTo>
                <a:lnTo>
                  <a:pt x="303609" y="62104"/>
                </a:lnTo>
                <a:lnTo>
                  <a:pt x="489349" y="127734"/>
                </a:lnTo>
                <a:lnTo>
                  <a:pt x="607219" y="0"/>
                </a:lnTo>
                <a:lnTo>
                  <a:pt x="725088" y="127734"/>
                </a:lnTo>
                <a:lnTo>
                  <a:pt x="910828" y="62104"/>
                </a:lnTo>
                <a:lnTo>
                  <a:pt x="929245" y="217715"/>
                </a:lnTo>
                <a:lnTo>
                  <a:pt x="1133085" y="231775"/>
                </a:lnTo>
                <a:lnTo>
                  <a:pt x="1047115" y="373568"/>
                </a:lnTo>
                <a:lnTo>
                  <a:pt x="1214437" y="463550"/>
                </a:lnTo>
                <a:lnTo>
                  <a:pt x="1047115" y="553532"/>
                </a:lnTo>
                <a:lnTo>
                  <a:pt x="1133085" y="695325"/>
                </a:lnTo>
                <a:lnTo>
                  <a:pt x="929245" y="709385"/>
                </a:lnTo>
                <a:lnTo>
                  <a:pt x="910828" y="864996"/>
                </a:lnTo>
                <a:lnTo>
                  <a:pt x="725088" y="799366"/>
                </a:lnTo>
                <a:lnTo>
                  <a:pt x="607219" y="927100"/>
                </a:lnTo>
                <a:lnTo>
                  <a:pt x="489349" y="799366"/>
                </a:lnTo>
                <a:lnTo>
                  <a:pt x="303609" y="864996"/>
                </a:lnTo>
                <a:lnTo>
                  <a:pt x="285192" y="709385"/>
                </a:lnTo>
                <a:lnTo>
                  <a:pt x="81352" y="695325"/>
                </a:lnTo>
                <a:lnTo>
                  <a:pt x="167322" y="553532"/>
                </a:lnTo>
                <a:close/>
              </a:path>
            </a:pathLst>
          </a:custGeom>
          <a:solidFill>
            <a:srgbClr val="eef7f8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ttangolo 22"/>
          <p:cNvSpPr/>
          <p:nvPr/>
        </p:nvSpPr>
        <p:spPr>
          <a:xfrm>
            <a:off x="214200" y="1000080"/>
            <a:ext cx="8820360" cy="3359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2976480" y="150840"/>
            <a:ext cx="2952720" cy="489960"/>
          </a:xfrm>
          <a:prstGeom prst="rect">
            <a:avLst/>
          </a:prstGeom>
          <a:solidFill>
            <a:srgbClr val="eef7f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  <a:ea typeface="Tahoma"/>
              </a:rPr>
              <a:t>NBP o DM 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39840" y="1685880"/>
            <a:ext cx="273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ahoma"/>
              </a:rPr>
              <a:t>LA MAGGIOR PARTE DELLE FARMACIE APPLICA IL 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286160" y="1112760"/>
            <a:ext cx="471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ahoma"/>
              </a:rPr>
              <a:t>SOLO IL COSTANTE RIFERIMENTO 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CEDURE SCRITT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ahoma"/>
              </a:rPr>
              <a:t>GARANTISC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  <a:ea typeface="Tahoma"/>
              </a:rPr>
              <a:t>QUALI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RIPRODUCIBILIT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ELLE PREPARAZIONI GALENICHE ALLESTI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00040" y="5500800"/>
            <a:ext cx="8072640" cy="1068840"/>
          </a:xfrm>
          <a:prstGeom prst="rect">
            <a:avLst/>
          </a:prstGeom>
          <a:solidFill>
            <a:srgbClr val="ffe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M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CEDURE SCRIT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SIGLI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ER GARANTIRE LA QUAL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CasellaDiTesto 15"/>
          <p:cNvSpPr/>
          <p:nvPr/>
        </p:nvSpPr>
        <p:spPr>
          <a:xfrm>
            <a:off x="3462480" y="233352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ahoma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Freccia in giù 18"/>
          <p:cNvSpPr/>
          <p:nvPr/>
        </p:nvSpPr>
        <p:spPr>
          <a:xfrm>
            <a:off x="4357800" y="4500720"/>
            <a:ext cx="428400" cy="7855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cccc"/>
          </a:solidFill>
          <a:ln w="2844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ttangolo 1"/>
          <p:cNvSpPr/>
          <p:nvPr/>
        </p:nvSpPr>
        <p:spPr>
          <a:xfrm>
            <a:off x="500040" y="2025720"/>
            <a:ext cx="8072640" cy="3018600"/>
          </a:xfrm>
          <a:prstGeom prst="rect">
            <a:avLst/>
          </a:prstGeom>
          <a:solidFill>
            <a:srgbClr val="ffe5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ODO DI PROCEDERE, DI COMPORTAR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IE DI OPERAZIONI DA COMPIERE PER OTTENERE UN DETERMINATO SCO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ttangolo 2"/>
          <p:cNvSpPr/>
          <p:nvPr/>
        </p:nvSpPr>
        <p:spPr>
          <a:xfrm>
            <a:off x="3286080" y="57024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abatini Colett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  Dizionario della Lingua Italia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ttangolo 3"/>
          <p:cNvSpPr/>
          <p:nvPr/>
        </p:nvSpPr>
        <p:spPr>
          <a:xfrm>
            <a:off x="3269160" y="714240"/>
            <a:ext cx="267552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PROCED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laborazione 10"/>
          <p:cNvSpPr/>
          <p:nvPr/>
        </p:nvSpPr>
        <p:spPr>
          <a:xfrm>
            <a:off x="351000" y="4714920"/>
            <a:ext cx="8429400" cy="1714320"/>
          </a:xfrm>
          <a:prstGeom prst="flowChartProcess">
            <a:avLst/>
          </a:prstGeom>
          <a:solidFill>
            <a:srgbClr val="ffe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2" descr="logoappa"/>
          <p:cNvPicPr/>
          <p:nvPr/>
        </p:nvPicPr>
        <p:blipFill>
          <a:blip r:embed="rId1"/>
          <a:stretch/>
        </p:blipFill>
        <p:spPr>
          <a:xfrm>
            <a:off x="5929200" y="2075040"/>
            <a:ext cx="2454480" cy="2282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928800" y="2854440"/>
            <a:ext cx="4211640" cy="642600"/>
          </a:xfrm>
          <a:prstGeom prst="rect">
            <a:avLst/>
          </a:prstGeom>
          <a:solidFill>
            <a:srgbClr val="daede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ff"/>
                </a:solidFill>
                <a:latin typeface="Tahoma"/>
              </a:rPr>
              <a:t>PAOLA BRUSA     ANTONIO GERMANO www.progettoappa.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Rettangolo 6" descr=""/>
          <p:cNvPicPr/>
          <p:nvPr/>
        </p:nvPicPr>
        <p:blipFill>
          <a:blip r:embed="rId2"/>
          <a:stretch/>
        </p:blipFill>
        <p:spPr>
          <a:xfrm>
            <a:off x="487440" y="311040"/>
            <a:ext cx="8096040" cy="1414440"/>
          </a:xfrm>
          <a:prstGeom prst="rect">
            <a:avLst/>
          </a:prstGeom>
          <a:ln w="0">
            <a:noFill/>
          </a:ln>
        </p:spPr>
      </p:pic>
      <p:sp>
        <p:nvSpPr>
          <p:cNvPr id="302" name="Rettangolo 4"/>
          <p:cNvSpPr/>
          <p:nvPr/>
        </p:nvSpPr>
        <p:spPr>
          <a:xfrm>
            <a:off x="71280" y="4713120"/>
            <a:ext cx="885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DM: PROCEDURE UTILIZZABILI SU BASE VOLONTAR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ttangolo 7"/>
          <p:cNvSpPr/>
          <p:nvPr/>
        </p:nvSpPr>
        <p:spPr>
          <a:xfrm>
            <a:off x="396360" y="541656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NEL RISPETTO DELLO SPIRITO DEL DM STESSO 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ttangolo 8"/>
          <p:cNvSpPr/>
          <p:nvPr/>
        </p:nvSpPr>
        <p:spPr>
          <a:xfrm>
            <a:off x="1351080" y="592920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ER GARANTIRE ALL’ATTIVITÀ SVOLTA IL REQUISITO DI QUA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ttangolo 9"/>
          <p:cNvSpPr/>
          <p:nvPr/>
        </p:nvSpPr>
        <p:spPr>
          <a:xfrm>
            <a:off x="1000080" y="642960"/>
            <a:ext cx="7000920" cy="2214720"/>
          </a:xfrm>
          <a:prstGeom prst="rect">
            <a:avLst/>
          </a:prstGeom>
          <a:solidFill>
            <a:srgbClr val="f1fea0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428840" y="14050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Tahoma"/>
                <a:ea typeface="Tahoma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ttangolo 19"/>
          <p:cNvSpPr/>
          <p:nvPr/>
        </p:nvSpPr>
        <p:spPr>
          <a:xfrm>
            <a:off x="4937760" y="85716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Tahoma"/>
                <a:ea typeface="Tahoma"/>
              </a:rPr>
              <a:t>GESTION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Tahoma"/>
                <a:ea typeface="Tahoma"/>
              </a:rPr>
              <a:t>TECNOLOGI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Freccia angolare bidirezionale 20"/>
          <p:cNvSpPr/>
          <p:nvPr/>
        </p:nvSpPr>
        <p:spPr>
          <a:xfrm rot="8373600">
            <a:off x="3968280" y="1128240"/>
            <a:ext cx="1092240" cy="1236600"/>
          </a:xfrm>
          <a:custGeom>
            <a:avLst/>
            <a:gdLst>
              <a:gd name="textAreaLeft" fmla="*/ 82800 w 1092240"/>
              <a:gd name="textAreaRight" fmla="*/ 850680 w 1092240"/>
              <a:gd name="textAreaTop" fmla="*/ 879840 h 1236600"/>
              <a:gd name="textAreaBottom" fmla="*/ 1046520 h 1236600"/>
            </a:gdLst>
            <a:ahLst/>
            <a:rect l="textAreaLeft" t="textAreaTop" r="textAreaRight" b="textAreaBottom"/>
            <a:pathLst>
              <a:path w="719137" h="719138">
                <a:moveTo>
                  <a:pt x="0" y="560108"/>
                </a:moveTo>
                <a:lnTo>
                  <a:pt x="179784" y="401078"/>
                </a:lnTo>
                <a:lnTo>
                  <a:pt x="179784" y="511721"/>
                </a:lnTo>
                <a:lnTo>
                  <a:pt x="511720" y="511721"/>
                </a:lnTo>
                <a:lnTo>
                  <a:pt x="511720" y="179784"/>
                </a:lnTo>
                <a:lnTo>
                  <a:pt x="401077" y="179784"/>
                </a:lnTo>
                <a:lnTo>
                  <a:pt x="560107" y="0"/>
                </a:lnTo>
                <a:lnTo>
                  <a:pt x="719137" y="179784"/>
                </a:lnTo>
                <a:lnTo>
                  <a:pt x="608494" y="179784"/>
                </a:lnTo>
                <a:lnTo>
                  <a:pt x="608494" y="608495"/>
                </a:lnTo>
                <a:lnTo>
                  <a:pt x="179784" y="608495"/>
                </a:lnTo>
                <a:lnTo>
                  <a:pt x="179784" y="719138"/>
                </a:lnTo>
                <a:lnTo>
                  <a:pt x="0" y="56010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CasellaDiTesto 6"/>
          <p:cNvSpPr/>
          <p:nvPr/>
        </p:nvSpPr>
        <p:spPr>
          <a:xfrm>
            <a:off x="1071720" y="4429080"/>
            <a:ext cx="6858000" cy="109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6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0" i="1" lang="it-IT" sz="6600" spc="-1" strike="noStrike">
                <a:solidFill>
                  <a:srgbClr val="ff0000"/>
                </a:solidFill>
                <a:latin typeface="Tahoma"/>
              </a:rPr>
              <a:t>COSA SONO?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9" descr="http://www.alterecosrl.it/upload/Image/Gomma%200077.jpg"/>
          <p:cNvPicPr/>
          <p:nvPr/>
        </p:nvPicPr>
        <p:blipFill>
          <a:blip r:embed="rId1"/>
          <a:stretch/>
        </p:blipFill>
        <p:spPr>
          <a:xfrm>
            <a:off x="6429240" y="1065240"/>
            <a:ext cx="1403640" cy="10526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1250640" y="676080"/>
            <a:ext cx="569448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Archiviazione e conservazione della documentazio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Gestione del personal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Laboratori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Attrezzatu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Pulizia e manutenzio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Materie prim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di sintes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di origine vegetal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materie prime compost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Confezionamenti primar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Operazioni di preparazio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Documentazione formule magistral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ricetta medic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scheda della preparazio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foglio di allestiment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Documentazione formule officinal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fonte di legittimazio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scheda della preparazio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Tahoma"/>
              </a:rPr>
              <a:t>- foglio di allestiment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Assegnazione data limite di utilizz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Controlli di qualità formule magistral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Controlli di qualità formule officinal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Aspetti microbiologici dei preparat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Contratti estern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Autoispezione del laboratori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Procedure per la gestione degli apparecchi e degli utensil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2507040" y="142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PROCEDURE GEST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250" descr="fc100"/>
          <p:cNvPicPr/>
          <p:nvPr/>
        </p:nvPicPr>
        <p:blipFill>
          <a:blip r:embed="rId2"/>
          <a:stretch/>
        </p:blipFill>
        <p:spPr>
          <a:xfrm>
            <a:off x="6357960" y="3576600"/>
            <a:ext cx="1798560" cy="1352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51" descr="mf30"/>
          <p:cNvPicPr/>
          <p:nvPr/>
        </p:nvPicPr>
        <p:blipFill>
          <a:blip r:embed="rId3"/>
          <a:stretch/>
        </p:blipFill>
        <p:spPr>
          <a:xfrm>
            <a:off x="7005600" y="4800600"/>
            <a:ext cx="1727280" cy="1557360"/>
          </a:xfrm>
          <a:prstGeom prst="rect">
            <a:avLst/>
          </a:prstGeom>
          <a:ln w="0">
            <a:noFill/>
          </a:ln>
        </p:spPr>
      </p:pic>
      <p:pic>
        <p:nvPicPr>
          <p:cNvPr id="315" name="Immagine 53" descr="CAVT1C1GCAE2Y2F5CA62V4I7CANFLVPECAN5JU97CAWF62ZDCAM3AJ0OCA41O4U9CAHZMMOECAWVWAWECAHO9OZUCA1HS4U2CAKO0PP0CAWP7SETCADHHADNCA8RA4X0CAX63EOJCAIQOHEFCABA9QSY.jpg"/>
          <p:cNvPicPr/>
          <p:nvPr/>
        </p:nvPicPr>
        <p:blipFill>
          <a:blip r:embed="rId4"/>
          <a:stretch/>
        </p:blipFill>
        <p:spPr>
          <a:xfrm>
            <a:off x="5500800" y="1752480"/>
            <a:ext cx="1187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539640" y="411120"/>
            <a:ext cx="8064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PROCEDURE TECNOLOGICHE</a:t>
            </a:r>
            <a:br>
              <a:rPr sz="3200"/>
            </a:br>
            <a:br>
              <a:rPr sz="32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no costituite dall’insieme delle 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indicazioni pratiche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allestire una determinata forma farmaceu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Immagine 21" descr="laboratorio_clip_image014_0000.jpg"/>
          <p:cNvPicPr/>
          <p:nvPr/>
        </p:nvPicPr>
        <p:blipFill>
          <a:blip r:embed="rId1"/>
          <a:stretch/>
        </p:blipFill>
        <p:spPr>
          <a:xfrm>
            <a:off x="5357880" y="4056120"/>
            <a:ext cx="2678040" cy="201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1900080" y="2727360"/>
            <a:ext cx="2314800" cy="2916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1468440" y="357120"/>
            <a:ext cx="6103800" cy="123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i="1" lang="it-IT" sz="3600" spc="-1" strike="noStrike">
                <a:solidFill>
                  <a:srgbClr val="ff0000"/>
                </a:solidFill>
                <a:latin typeface="Tahoma"/>
              </a:rPr>
              <a:t>A COSA SERVONO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4284720" y="2016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08000" y="312912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Ottimizzazione dei tempi di lavo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iproducibilità delle operazion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iduzione del rischio di commettere errori durante l’allest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691360" y="552276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GARANZIA DI 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4284720" y="43513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CasellaDiTesto 1"/>
          <p:cNvSpPr/>
          <p:nvPr/>
        </p:nvSpPr>
        <p:spPr>
          <a:xfrm>
            <a:off x="684360" y="44514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UALI MEDICINALI GALENICI POSSONO ESSER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LLESTIT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 COME POSSONO ESSER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SPEDIT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Picture 4" descr="https://encrypted-tbn2.google.com/images?q=tbn:ANd9GcQhxr1QgYQZnmbIYevKFUAbwJwETzVCe77O6SzA311kNAXeAtQP"/>
          <p:cNvPicPr/>
          <p:nvPr/>
        </p:nvPicPr>
        <p:blipFill>
          <a:blip r:embed="rId1"/>
          <a:stretch/>
        </p:blipFill>
        <p:spPr>
          <a:xfrm>
            <a:off x="2952720" y="44136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2920" y="115920"/>
            <a:ext cx="88930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DM 22/06/200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di allestimento in farmacia di preparazioni magistrali e officinali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484280"/>
            <a:ext cx="648000" cy="1295280"/>
          </a:xfrm>
          <a:custGeom>
            <a:avLst/>
            <a:gdLst>
              <a:gd name="textAreaLeft" fmla="*/ 86760 w 648000"/>
              <a:gd name="textAreaRight" fmla="*/ 561240 w 6480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740720" y="1484280"/>
            <a:ext cx="649080" cy="1224000"/>
          </a:xfrm>
          <a:custGeom>
            <a:avLst/>
            <a:gdLst>
              <a:gd name="textAreaLeft" fmla="*/ 86760 w 649080"/>
              <a:gd name="textAreaRight" fmla="*/ 562320 w 64908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74920" y="2565360"/>
            <a:ext cx="18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7619"/>
                </a:solidFill>
                <a:latin typeface="Arial"/>
              </a:rPr>
              <a:t>NBP FU X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643280" y="2565360"/>
            <a:ext cx="38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7619"/>
                </a:solidFill>
                <a:latin typeface="Arial"/>
              </a:rPr>
              <a:t>DM 18/11/200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3068640"/>
            <a:ext cx="38163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66"/>
                </a:solidFill>
                <a:latin typeface="Arial"/>
              </a:rPr>
              <a:t>principi general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gestione pratica del laborator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48360" y="3141720"/>
            <a:ext cx="3960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gestione pratica del laborator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4067280" y="4365720"/>
            <a:ext cx="647640" cy="936360"/>
          </a:xfrm>
          <a:prstGeom prst="downArrow">
            <a:avLst>
              <a:gd name="adj1" fmla="val 50000"/>
              <a:gd name="adj2" fmla="val 36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826920" y="5589720"/>
            <a:ext cx="712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ER QUANTO CONCERNE I 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Arial"/>
              </a:rPr>
              <a:t>PRINCIPI GENERAL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SI FA 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Arial"/>
              </a:rPr>
              <a:t>RIFERIMENTO ALLE NB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82560" y="5445000"/>
            <a:ext cx="7561440" cy="1224000"/>
          </a:xfrm>
          <a:prstGeom prst="rect">
            <a:avLst/>
          </a:prstGeom>
          <a:noFill/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332000" y="2565360"/>
            <a:ext cx="2305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7619"/>
                </a:solidFill>
                <a:latin typeface="Arial"/>
              </a:rPr>
              <a:t>NBP FU X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971640" y="2003400"/>
            <a:ext cx="2870280" cy="581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Arial Narrow"/>
                <a:ea typeface="Times New Roman"/>
              </a:rPr>
              <a:t>MEDICIN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256360" y="1514520"/>
            <a:ext cx="2544480" cy="1323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Arial Narrow"/>
                <a:ea typeface="Times New Roman"/>
              </a:rPr>
              <a:t>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Arial Narrow"/>
                <a:ea typeface="Times New Roman"/>
              </a:rPr>
              <a:t>FARMA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217520" y="4510080"/>
            <a:ext cx="6477120" cy="642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00"/>
                </a:solidFill>
                <a:latin typeface="Arial Narrow"/>
                <a:ea typeface="Times New Roman"/>
              </a:rPr>
              <a:t>QUALITÀ SICUREZZA  EFFICAC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arentesi graffa aperta 9"/>
          <p:cNvSpPr/>
          <p:nvPr/>
        </p:nvSpPr>
        <p:spPr>
          <a:xfrm>
            <a:off x="4417920" y="150804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440000"/>
              <a:gd name="textAreaBottom" fmla="*/ 14328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59"/>
                </a:cubicBezTo>
                <a:lnTo>
                  <a:pt x="10800" y="10441"/>
                </a:lnTo>
                <a:cubicBezTo>
                  <a:pt x="10800" y="10621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59"/>
                </a:cubicBezTo>
                <a:lnTo>
                  <a:pt x="10800" y="21241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Freccia in giù 10"/>
          <p:cNvSpPr/>
          <p:nvPr/>
        </p:nvSpPr>
        <p:spPr>
          <a:xfrm>
            <a:off x="2050920" y="2709720"/>
            <a:ext cx="757440" cy="1440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ttangolo 19"/>
          <p:cNvSpPr/>
          <p:nvPr/>
        </p:nvSpPr>
        <p:spPr>
          <a:xfrm>
            <a:off x="8215200" y="3429000"/>
            <a:ext cx="468360" cy="142920"/>
          </a:xfrm>
          <a:prstGeom prst="rect">
            <a:avLst/>
          </a:prstGeom>
          <a:solidFill>
            <a:srgbClr val="e4e5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ttangolo 20"/>
          <p:cNvSpPr/>
          <p:nvPr/>
        </p:nvSpPr>
        <p:spPr>
          <a:xfrm>
            <a:off x="1116000" y="5357880"/>
            <a:ext cx="7072200" cy="1285920"/>
          </a:xfrm>
          <a:prstGeom prst="rect">
            <a:avLst/>
          </a:prstGeom>
          <a:solidFill>
            <a:srgbClr val="fefebe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ttangolo 21"/>
          <p:cNvSpPr/>
          <p:nvPr/>
        </p:nvSpPr>
        <p:spPr>
          <a:xfrm>
            <a:off x="73080" y="1500120"/>
            <a:ext cx="5641920" cy="2284200"/>
          </a:xfrm>
          <a:prstGeom prst="rect">
            <a:avLst/>
          </a:prstGeom>
          <a:solidFill>
            <a:srgbClr val="e4e5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 Narrow"/>
              </a:rPr>
              <a:t>MEDICINALE (Medicinal Product /Drug Produ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1) ogni </a:t>
            </a:r>
            <a:r>
              <a:rPr b="1" lang="it-IT" sz="1600" spc="-1" strike="noStrike">
                <a:solidFill>
                  <a:srgbClr val="0032d2"/>
                </a:solidFill>
                <a:latin typeface="Arial Narrow"/>
              </a:rPr>
              <a:t>sostanza</a:t>
            </a: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 o </a:t>
            </a:r>
            <a:r>
              <a:rPr b="1" lang="it-IT" sz="1600" spc="-1" strike="noStrike">
                <a:solidFill>
                  <a:srgbClr val="0032d2"/>
                </a:solidFill>
                <a:latin typeface="Arial Narrow"/>
              </a:rPr>
              <a:t>associazione di sostanze </a:t>
            </a: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presentata come avente proprietà curative o profilattiche delle malattie uma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2) ogni </a:t>
            </a:r>
            <a:r>
              <a:rPr b="1" lang="it-IT" sz="1600" spc="-1" strike="noStrike">
                <a:solidFill>
                  <a:srgbClr val="0032d2"/>
                </a:solidFill>
                <a:latin typeface="Arial Narrow"/>
              </a:rPr>
              <a:t>sostanza</a:t>
            </a: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 o </a:t>
            </a:r>
            <a:r>
              <a:rPr b="1" lang="it-IT" sz="1600" spc="-1" strike="noStrike">
                <a:solidFill>
                  <a:srgbClr val="0032d2"/>
                </a:solidFill>
                <a:latin typeface="Arial Narrow"/>
              </a:rPr>
              <a:t>associazione di sostanze </a:t>
            </a: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che può essere utilizzata sull'uomo o somministrata all'uomo allo scopo di ripristinare, correggere o modificare funzioni fisiologiche, esercitando un'azione farmacologica, immunologica o metabolica, ovvero di stabilire una diagnosi medic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d2"/>
                </a:solidFill>
                <a:latin typeface="Arial Narrow"/>
              </a:rPr>
              <a:t>Dlgs 219/06, art.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73080" y="147960"/>
            <a:ext cx="8999640" cy="1067400"/>
          </a:xfrm>
          <a:prstGeom prst="rect">
            <a:avLst/>
          </a:prstGeom>
          <a:solidFill>
            <a:srgbClr val="e4e5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FARMACO, SOSTANZA ATTIVA, PRINCIPIO ATTIVO (Drug, A.P.I., Drug Substan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d2"/>
                </a:solidFill>
                <a:latin typeface="Arial Narrow"/>
                <a:ea typeface="Times New Roman"/>
              </a:rPr>
              <a:t>Sostanza che per le sue proprietà chimiche, chimico-fisiche e fisiche è dotata di virtù terapeutich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2d2"/>
                </a:solidFill>
                <a:latin typeface="Arial Narrow"/>
                <a:ea typeface="Times New Roman"/>
              </a:rPr>
              <a:t>(Lo Zingarelli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reccia a destra con strisce 23"/>
          <p:cNvSpPr/>
          <p:nvPr/>
        </p:nvSpPr>
        <p:spPr>
          <a:xfrm>
            <a:off x="5929200" y="2643120"/>
            <a:ext cx="500040" cy="285840"/>
          </a:xfrm>
          <a:custGeom>
            <a:avLst/>
            <a:gdLst>
              <a:gd name="textAreaLeft" fmla="*/ 44640 w 500040"/>
              <a:gd name="textAreaRight" fmla="*/ 428760 w 5000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00062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357187" y="71438"/>
                </a:lnTo>
                <a:lnTo>
                  <a:pt x="357187" y="0"/>
                </a:lnTo>
                <a:lnTo>
                  <a:pt x="500062" y="142875"/>
                </a:lnTo>
                <a:lnTo>
                  <a:pt x="357187" y="285750"/>
                </a:lnTo>
                <a:lnTo>
                  <a:pt x="357187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e4e5e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Freccia a destra con strisce 24"/>
          <p:cNvSpPr/>
          <p:nvPr/>
        </p:nvSpPr>
        <p:spPr>
          <a:xfrm>
            <a:off x="5929200" y="2000160"/>
            <a:ext cx="500040" cy="285840"/>
          </a:xfrm>
          <a:custGeom>
            <a:avLst/>
            <a:gdLst>
              <a:gd name="textAreaLeft" fmla="*/ 44640 w 500040"/>
              <a:gd name="textAreaRight" fmla="*/ 428760 w 5000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00062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357187" y="71438"/>
                </a:lnTo>
                <a:lnTo>
                  <a:pt x="357187" y="0"/>
                </a:lnTo>
                <a:lnTo>
                  <a:pt x="500062" y="142875"/>
                </a:lnTo>
                <a:lnTo>
                  <a:pt x="357187" y="285750"/>
                </a:lnTo>
                <a:lnTo>
                  <a:pt x="357187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e4e5e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CasellaDiTesto 7"/>
          <p:cNvSpPr/>
          <p:nvPr/>
        </p:nvSpPr>
        <p:spPr>
          <a:xfrm>
            <a:off x="6572160" y="2571840"/>
            <a:ext cx="1500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ALEN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CasellaDiTesto 8"/>
          <p:cNvSpPr/>
          <p:nvPr/>
        </p:nvSpPr>
        <p:spPr>
          <a:xfrm>
            <a:off x="6572160" y="1928880"/>
            <a:ext cx="1500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STAN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CasellaDiTesto 9"/>
          <p:cNvSpPr/>
          <p:nvPr/>
        </p:nvSpPr>
        <p:spPr>
          <a:xfrm>
            <a:off x="1687680" y="5657760"/>
            <a:ext cx="3071520" cy="642600"/>
          </a:xfrm>
          <a:prstGeom prst="rect">
            <a:avLst/>
          </a:prstGeom>
          <a:noFill/>
          <a:ln w="9360">
            <a:solidFill>
              <a:srgbClr val="003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2d2"/>
                </a:solidFill>
                <a:latin typeface="Arial Narrow"/>
                <a:ea typeface="Times New Roman"/>
              </a:rPr>
              <a:t>SPECIALITÀ MEDICIN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2d2"/>
                </a:solidFill>
                <a:latin typeface="Arial Narrow"/>
                <a:ea typeface="Times New Roman"/>
              </a:rPr>
              <a:t>Dlgs 178/9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CasellaDiTesto 28"/>
          <p:cNvSpPr/>
          <p:nvPr/>
        </p:nvSpPr>
        <p:spPr>
          <a:xfrm>
            <a:off x="1655640" y="5657760"/>
            <a:ext cx="3132360" cy="642600"/>
          </a:xfrm>
          <a:prstGeom prst="rect">
            <a:avLst/>
          </a:prstGeom>
          <a:solidFill>
            <a:srgbClr val="e4e5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2d2"/>
                </a:solidFill>
                <a:latin typeface="Arial Narrow"/>
              </a:rPr>
              <a:t>MEDICIN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2d2"/>
                </a:solidFill>
                <a:latin typeface="Arial Narrow"/>
              </a:rPr>
              <a:t>Dlgs 219/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CasellaDiTesto 29"/>
          <p:cNvSpPr/>
          <p:nvPr/>
        </p:nvSpPr>
        <p:spPr>
          <a:xfrm>
            <a:off x="6116760" y="5773680"/>
            <a:ext cx="1500120" cy="368280"/>
          </a:xfrm>
          <a:prstGeom prst="rect">
            <a:avLst/>
          </a:prstGeom>
          <a:solidFill>
            <a:srgbClr val="e4e5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2d2"/>
                </a:solidFill>
                <a:latin typeface="Arial Narrow"/>
              </a:rPr>
              <a:t>FARMA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Freccia angolare in su 30"/>
          <p:cNvSpPr/>
          <p:nvPr/>
        </p:nvSpPr>
        <p:spPr>
          <a:xfrm>
            <a:off x="8215200" y="1357200"/>
            <a:ext cx="642960" cy="785880"/>
          </a:xfrm>
          <a:custGeom>
            <a:avLst/>
            <a:gdLst>
              <a:gd name="textAreaLeft" fmla="*/ 0 w 642960"/>
              <a:gd name="textAreaRight" fmla="*/ 541800 w 642960"/>
              <a:gd name="textAreaTop" fmla="*/ 666720 h 785880"/>
              <a:gd name="textAreaBottom" fmla="*/ 786240 h 785880"/>
            </a:gdLst>
            <a:ahLst/>
            <a:rect l="textAreaLeft" t="textAreaTop" r="textAreaRight" b="textAreaBottom"/>
            <a:pathLst>
              <a:path w="642937" h="785812">
                <a:moveTo>
                  <a:pt x="0" y="666644"/>
                </a:moveTo>
                <a:lnTo>
                  <a:pt x="422619" y="666644"/>
                </a:lnTo>
                <a:lnTo>
                  <a:pt x="422619" y="160734"/>
                </a:lnTo>
                <a:lnTo>
                  <a:pt x="321469" y="160734"/>
                </a:lnTo>
                <a:lnTo>
                  <a:pt x="482203" y="0"/>
                </a:lnTo>
                <a:lnTo>
                  <a:pt x="642937" y="160734"/>
                </a:lnTo>
                <a:lnTo>
                  <a:pt x="541787" y="160734"/>
                </a:lnTo>
                <a:lnTo>
                  <a:pt x="541787" y="785812"/>
                </a:lnTo>
                <a:lnTo>
                  <a:pt x="0" y="785812"/>
                </a:lnTo>
                <a:close/>
              </a:path>
            </a:pathLst>
          </a:custGeom>
          <a:solidFill>
            <a:srgbClr val="e4e5e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CasellaDiTesto 17"/>
          <p:cNvSpPr/>
          <p:nvPr/>
        </p:nvSpPr>
        <p:spPr>
          <a:xfrm>
            <a:off x="6357960" y="4286160"/>
            <a:ext cx="2641680" cy="824040"/>
          </a:xfrm>
          <a:prstGeom prst="rect">
            <a:avLst/>
          </a:prstGeom>
          <a:solidFill>
            <a:srgbClr val="ddffff"/>
          </a:solidFill>
          <a:ln w="9360">
            <a:solidFill>
              <a:srgbClr val="003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FORMA FARMACEUT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2d2"/>
                </a:solidFill>
                <a:latin typeface="Arial Narrow"/>
                <a:ea typeface="Times New Roman"/>
              </a:rPr>
              <a:t>FARMACO + ECCIPIEN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2d2"/>
                </a:solidFill>
                <a:latin typeface="Arial Narrow"/>
                <a:ea typeface="Times New Roman"/>
              </a:rPr>
              <a:t>Dosage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reccia a destra con strisce 5"/>
          <p:cNvSpPr/>
          <p:nvPr/>
        </p:nvSpPr>
        <p:spPr>
          <a:xfrm>
            <a:off x="5929200" y="3284640"/>
            <a:ext cx="500040" cy="285480"/>
          </a:xfrm>
          <a:custGeom>
            <a:avLst/>
            <a:gdLst>
              <a:gd name="textAreaLeft" fmla="*/ 44640 w 500040"/>
              <a:gd name="textAreaRight" fmla="*/ 428760 w 500040"/>
              <a:gd name="textAreaTop" fmla="*/ 71280 h 285480"/>
              <a:gd name="textAreaBottom" fmla="*/ 214200 h 285480"/>
            </a:gdLst>
            <a:ahLst/>
            <a:rect l="textAreaLeft" t="textAreaTop" r="textAreaRight" b="textAreaBottom"/>
            <a:pathLst>
              <a:path w="500062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357187" y="71438"/>
                </a:lnTo>
                <a:lnTo>
                  <a:pt x="357187" y="0"/>
                </a:lnTo>
                <a:lnTo>
                  <a:pt x="500062" y="142875"/>
                </a:lnTo>
                <a:lnTo>
                  <a:pt x="357187" y="285750"/>
                </a:lnTo>
                <a:lnTo>
                  <a:pt x="357187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e4e5e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CasellaDiTesto 7"/>
          <p:cNvSpPr/>
          <p:nvPr/>
        </p:nvSpPr>
        <p:spPr>
          <a:xfrm>
            <a:off x="6572160" y="314316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INALE DI ORIGINE INDUSTRIA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4929120" y="5773680"/>
            <a:ext cx="1008000" cy="3603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e4e5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er 35"/>
          <p:cNvSpPr/>
          <p:nvPr/>
        </p:nvSpPr>
        <p:spPr>
          <a:xfrm>
            <a:off x="5072040" y="5559480"/>
            <a:ext cx="785880" cy="714240"/>
          </a:xfrm>
          <a:custGeom>
            <a:avLst/>
            <a:gdLst>
              <a:gd name="textAreaLeft" fmla="*/ 132120 w 785880"/>
              <a:gd name="textAreaRight" fmla="*/ 653760 w 785880"/>
              <a:gd name="textAreaTop" fmla="*/ 109440 h 714240"/>
              <a:gd name="textAreaBottom" fmla="*/ 604800 h 714240"/>
            </a:gdLst>
            <a:ahLst/>
            <a:rect l="textAreaLeft" t="textAreaTop" r="textAreaRight" b="textAreaBottom"/>
            <a:pathLst>
              <a:path w="785812" h="714375">
                <a:moveTo>
                  <a:pt x="132221" y="233738"/>
                </a:moveTo>
                <a:lnTo>
                  <a:pt x="245244" y="109412"/>
                </a:lnTo>
                <a:lnTo>
                  <a:pt x="392906" y="243651"/>
                </a:lnTo>
                <a:lnTo>
                  <a:pt x="540568" y="109412"/>
                </a:lnTo>
                <a:lnTo>
                  <a:pt x="653591" y="233738"/>
                </a:lnTo>
                <a:lnTo>
                  <a:pt x="517797" y="357188"/>
                </a:lnTo>
                <a:lnTo>
                  <a:pt x="653591" y="480637"/>
                </a:lnTo>
                <a:lnTo>
                  <a:pt x="540568" y="604963"/>
                </a:lnTo>
                <a:lnTo>
                  <a:pt x="392906" y="470724"/>
                </a:lnTo>
                <a:lnTo>
                  <a:pt x="245244" y="604963"/>
                </a:lnTo>
                <a:lnTo>
                  <a:pt x="132221" y="480637"/>
                </a:lnTo>
                <a:lnTo>
                  <a:pt x="268015" y="357188"/>
                </a:lnTo>
                <a:close/>
              </a:path>
            </a:pathLst>
          </a:custGeom>
          <a:solidFill>
            <a:srgbClr val="e4e5e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Freccia angolare in su 36"/>
          <p:cNvSpPr/>
          <p:nvPr/>
        </p:nvSpPr>
        <p:spPr>
          <a:xfrm flipV="1">
            <a:off x="8215200" y="2714040"/>
            <a:ext cx="642960" cy="1500120"/>
          </a:xfrm>
          <a:custGeom>
            <a:avLst/>
            <a:gdLst>
              <a:gd name="textAreaLeft" fmla="*/ 0 w 642960"/>
              <a:gd name="textAreaRight" fmla="*/ 541800 w 642960"/>
              <a:gd name="textAreaTop" fmla="*/ 1380600 h 1500120"/>
              <a:gd name="textAreaBottom" fmla="*/ 1500120 h 1500120"/>
            </a:gdLst>
            <a:ahLst/>
            <a:rect l="textAreaLeft" t="textAreaTop" r="textAreaRight" b="textAreaBottom"/>
            <a:pathLst>
              <a:path w="642937" h="1500188">
                <a:moveTo>
                  <a:pt x="0" y="1381020"/>
                </a:moveTo>
                <a:lnTo>
                  <a:pt x="422619" y="1381020"/>
                </a:lnTo>
                <a:lnTo>
                  <a:pt x="422619" y="160734"/>
                </a:lnTo>
                <a:lnTo>
                  <a:pt x="321469" y="160734"/>
                </a:lnTo>
                <a:lnTo>
                  <a:pt x="482203" y="0"/>
                </a:lnTo>
                <a:lnTo>
                  <a:pt x="642937" y="160734"/>
                </a:lnTo>
                <a:lnTo>
                  <a:pt x="541787" y="160734"/>
                </a:lnTo>
                <a:lnTo>
                  <a:pt x="541787" y="1500188"/>
                </a:lnTo>
                <a:lnTo>
                  <a:pt x="0" y="1500188"/>
                </a:lnTo>
                <a:close/>
              </a:path>
            </a:pathLst>
          </a:custGeom>
          <a:solidFill>
            <a:srgbClr val="e4e5e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1574640" y="404640"/>
            <a:ext cx="60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Dlgs 219 del 24 aprile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79280" y="1357200"/>
          <a:ext cx="8847360" cy="4722840"/>
        </p:xfrm>
        <a:graphic>
          <a:graphicData uri="http://schemas.openxmlformats.org/drawingml/2006/table">
            <a:tbl>
              <a:tblPr/>
              <a:tblGrid>
                <a:gridCol w="381240"/>
                <a:gridCol w="846612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mpo d’appl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ticol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l presente decreto non si applica a quanto seg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i medicinali preparati in farmacia in base ad una prescrizione medica destinata ad un determinato paziente (detti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Lucida Sans Unicode"/>
                        </a:rPr>
                        <a:t>formula magistral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i medicinali preparati in farmacia in base alle indicazioni di una farmacopea e destinati ad essere fornito direttamente ai pazienti che si servono in tale farmacia (detti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  <a:ea typeface="Lucida Sans Unicode"/>
                        </a:rPr>
                        <a:t>formula officinal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i medicinali destinati agli esperimenti di ricerca e di svilupp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i prodotti intermedi destinati ad ulteriore trasformazione da parte di un fabbricante autorizzat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i radionuclidi utilizzati in forma preconfezionat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l sangue intero, al plasma, né agli emoplasti di origine um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6"/>
          <p:cNvSpPr/>
          <p:nvPr/>
        </p:nvSpPr>
        <p:spPr>
          <a:xfrm>
            <a:off x="1258920" y="26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DM 18/11/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1197000"/>
            <a:ext cx="8137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definizione di galenico è stata ulteriormente dettagliata nel testo del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M 18/11/2003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pubblicato in GU n. 11 del 15/1/2004 </a:t>
            </a:r>
            <a:r>
              <a:rPr b="0" i="1" lang="it-IT" sz="16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“Procedure di allestimento dei preparati magistrali e officinali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he ha definitivamente sancito l’entrata in vigore della Norme di Buona Preparazione FU XI. L’articolo 2 recita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i fini del presente decreto, si intende per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cc00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preparato magistrale</a:t>
            </a:r>
            <a:r>
              <a:rPr b="0" i="1" lang="it-IT" sz="16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 </a:t>
            </a: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mula magistrale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il medicinale preparato in farmacia in base ad una prescrizione medica destinata ad un determinato paziente; sono tecnicamente assimilabili ai preparati magistrali anche tutte le miscelazioni, diluizioni, ripartizioni, ecc., eseguite per il singolo paziente su indicazione medica; la prescrizione medica deve tenere conto di quanto previsto dall‘Art. 5 del Decreto-legge 17 febbraio 1998, n. 23, convertito in legge con modifiche dall‘Art. 1, comma 1, Legge 8 aprile 1998, n. 94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cc00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preparato officinale</a:t>
            </a:r>
            <a:r>
              <a:rPr b="0" i="1" lang="it-IT" sz="16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 </a:t>
            </a: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mula officinale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il medicinale preparato in farmacia in base alle indicazioni di una Farmacopea dell'U.E. e destinato ad essere fornito direttamente ai pazienti che si servono in tale farmacia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cala ridotta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numero di «preparati» eseguibili dal farmacista; la consistenza numerica, compatibilmente con la stabilità del preparato stesso, è quella ottenibile da una massa non più grande di 3000 grammi di formulato; per i preparati soggetti a presentazione di ricetta medica la consistenza numerica deve essere documentata sulla base delle ricette mediche (copie od originali) presentate dai pazienti; il farmacista può procedere ad una successiva preparazione di una formula officinale purchè la scorta non superi comunque la consistenza numerica prevista dalla scala ridott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52280" y="482760"/>
            <a:ext cx="88394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FORMULE OFFICINALI (MULTIPL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d2611c"/>
                </a:solidFill>
                <a:latin typeface="Arial Narrow"/>
                <a:ea typeface="Times New Roman"/>
              </a:rPr>
              <a:t>Fonte di legittimazione</a:t>
            </a:r>
            <a:r>
              <a:rPr b="0" lang="it-IT" sz="1600" spc="-1" strike="noStrike">
                <a:solidFill>
                  <a:srgbClr val="d2611c"/>
                </a:solidFill>
                <a:latin typeface="Arial Narrow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Farmacopee UE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FU XII: monografie “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parazioni farmaceutiche specifich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n sono indicati: eccipienti, metodo di preparazione, categoria terapeutica, avvertenze, posologia come nel Formulario Naziona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n è più indicato se il preparato è soggetto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crizione med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sciplina delle sostanze stupefacenti, né la sottotabella alla quale la preparazione appartie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ferimento per il farmacista per conoscere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alità di spedizione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po di ricett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abelle 3, 4, 5 della F.U. XII e legge 49/20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FORMULE MAGISTR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parazioni estemporanee destinate a malati determinat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d2611c"/>
                </a:solidFill>
                <a:latin typeface="Arial Narrow"/>
                <a:ea typeface="Times New Roman"/>
              </a:rPr>
              <a:t>Fonte di legittimazione</a:t>
            </a:r>
            <a:r>
              <a:rPr b="0" lang="it-IT" sz="1600" spc="-1" strike="noStrike">
                <a:solidFill>
                  <a:srgbClr val="d2611c"/>
                </a:solidFill>
                <a:latin typeface="Arial Narrow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prescrizione medica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torizza il farmacista non solo a dispensare il medicinale ma anche ad allestire una preparazione non compresa nella Farmacope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rmacista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incolato al numero di dosi e alla quantità totale indicate dal med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n autorizzato a preparare quantitativi superiori a quelli indicati nella ricet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 accertare che le dosi prescritte dal medico siano in accordo con quelle riportate dalla Tabella 8 F.U. XI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ttangolo 1"/>
          <p:cNvSpPr/>
          <p:nvPr/>
        </p:nvSpPr>
        <p:spPr>
          <a:xfrm>
            <a:off x="1619280" y="14842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principi attivi descritti nelle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Calibri"/>
              </a:rPr>
              <a:t>farmacope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 dei Paesi dell'Unione europea o contenuti i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Calibri"/>
              </a:rPr>
              <a:t>medicinali prodotti industrialm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di cui è autorizzato il commercio in Italia o in altro Paese dell'Unione europ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ttangolo 2"/>
          <p:cNvSpPr/>
          <p:nvPr/>
        </p:nvSpPr>
        <p:spPr>
          <a:xfrm>
            <a:off x="250920" y="1159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Legge n. 94 del 8 aprile 199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(ora nota all’art. 3 del Dlgs 219/06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I medici possono prescrivere preparazioni magistral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Calibri"/>
              </a:rPr>
              <a:t>esclusivamente a base d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ttangolo 3"/>
          <p:cNvSpPr/>
          <p:nvPr/>
        </p:nvSpPr>
        <p:spPr>
          <a:xfrm>
            <a:off x="1619280" y="283212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er uso or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: molecole … contenute in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prodotti non farmaceutici per uso or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regolarmente in commercio nei Paesi dell'Unione europ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ttangolo 4"/>
          <p:cNvSpPr/>
          <p:nvPr/>
        </p:nvSpPr>
        <p:spPr>
          <a:xfrm>
            <a:off x="1619280" y="418932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per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uso ester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molecole … contenute in prodott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smetic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regolarmente in commercio in detti Pae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ttangolo 5"/>
          <p:cNvSpPr/>
          <p:nvPr/>
        </p:nvSpPr>
        <p:spPr>
          <a:xfrm>
            <a:off x="1619280" y="5353200"/>
            <a:ext cx="70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principi attivi contenuti in medicinali la cui autorizzazione all'immissione in commercio sia sta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revocata o non confermata per motiv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non attinenti ai rischi di impiego del principio at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Freccia a destra 6"/>
          <p:cNvSpPr/>
          <p:nvPr/>
        </p:nvSpPr>
        <p:spPr>
          <a:xfrm>
            <a:off x="755640" y="1595520"/>
            <a:ext cx="720720" cy="647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reccia a destra 7"/>
          <p:cNvSpPr/>
          <p:nvPr/>
        </p:nvSpPr>
        <p:spPr>
          <a:xfrm>
            <a:off x="755640" y="3035160"/>
            <a:ext cx="720720" cy="649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Freccia a destra 8"/>
          <p:cNvSpPr/>
          <p:nvPr/>
        </p:nvSpPr>
        <p:spPr>
          <a:xfrm>
            <a:off x="755640" y="4259160"/>
            <a:ext cx="720720" cy="649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reccia a destra 9"/>
          <p:cNvSpPr/>
          <p:nvPr/>
        </p:nvSpPr>
        <p:spPr>
          <a:xfrm>
            <a:off x="755640" y="5556240"/>
            <a:ext cx="720720" cy="647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108000" y="2421000"/>
            <a:ext cx="8891640" cy="436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abella 7 FU X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RR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Tabella IIA (incluso Allegato III-bis Legge 12/200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RN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Tabella II sezione B,C,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Tabella II sezione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SN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abella II sezione A,D (Legge 38/1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ota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considerazione della DGR Piemonte n° 30-8783 del 25 marzo 2003 è previsto che le preparazioni galeniche magistrali contenenti i farmaci compresi nell’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llegato III bis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Legge 12 dell’8 febbraio 2001, anche in associazione con altri principi attivi (DM 04/04/2003), quando prescritte a pazienti affetti da dolore severo associato a patologie neoplastiche o degenerative, siano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rimborsate dal SS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abelle 4 e 5 FU X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RN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(TAB..3 FU formalismi divers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CasellaDiTesto 6"/>
          <p:cNvSpPr/>
          <p:nvPr/>
        </p:nvSpPr>
        <p:spPr>
          <a:xfrm>
            <a:off x="5400720" y="177840"/>
            <a:ext cx="11160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N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N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CasellaDiTesto 7"/>
          <p:cNvSpPr/>
          <p:nvPr/>
        </p:nvSpPr>
        <p:spPr>
          <a:xfrm>
            <a:off x="1079640" y="115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STIMENTO DI MEDICINALI GALENI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reccia a destra 10"/>
          <p:cNvSpPr/>
          <p:nvPr/>
        </p:nvSpPr>
        <p:spPr>
          <a:xfrm>
            <a:off x="4067280" y="260280"/>
            <a:ext cx="100944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Freccia angolare in su 12"/>
          <p:cNvSpPr/>
          <p:nvPr/>
        </p:nvSpPr>
        <p:spPr>
          <a:xfrm flipH="1" rot="10800000">
            <a:off x="6226560" y="1628640"/>
            <a:ext cx="792360" cy="648000"/>
          </a:xfrm>
          <a:custGeom>
            <a:avLst/>
            <a:gdLst>
              <a:gd name="textAreaLeft" fmla="*/ -360 w 792360"/>
              <a:gd name="textAreaRight" fmla="*/ 711000 w 792360"/>
              <a:gd name="textAreaTop" fmla="*/ 486000 h 648000"/>
              <a:gd name="textAreaBottom" fmla="*/ 648360 h 648000"/>
            </a:gdLst>
            <a:ahLst/>
            <a:rect l="textAreaLeft" t="textAreaTop" r="textAreaRight" b="textAreaBottom"/>
            <a:pathLst>
              <a:path w="792162" h="647700">
                <a:moveTo>
                  <a:pt x="0" y="485775"/>
                </a:moveTo>
                <a:lnTo>
                  <a:pt x="549275" y="485775"/>
                </a:lnTo>
                <a:lnTo>
                  <a:pt x="549275" y="161925"/>
                </a:lnTo>
                <a:lnTo>
                  <a:pt x="468312" y="161925"/>
                </a:lnTo>
                <a:lnTo>
                  <a:pt x="630237" y="0"/>
                </a:lnTo>
                <a:lnTo>
                  <a:pt x="792162" y="161925"/>
                </a:lnTo>
                <a:lnTo>
                  <a:pt x="711200" y="161925"/>
                </a:lnTo>
                <a:lnTo>
                  <a:pt x="711200" y="647700"/>
                </a:lnTo>
                <a:lnTo>
                  <a:pt x="0" y="6477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ttangolo 19"/>
          <p:cNvSpPr/>
          <p:nvPr/>
        </p:nvSpPr>
        <p:spPr>
          <a:xfrm>
            <a:off x="108000" y="5732640"/>
            <a:ext cx="8964720" cy="1054080"/>
          </a:xfrm>
          <a:prstGeom prst="rect">
            <a:avLst/>
          </a:prstGeom>
          <a:solidFill>
            <a:srgbClr val="ffff7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ttangolo 1"/>
          <p:cNvSpPr/>
          <p:nvPr/>
        </p:nvSpPr>
        <p:spPr>
          <a:xfrm>
            <a:off x="108000" y="76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FU XII – PREPARAZIONI FARMACEUTICHE SPECIFICH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354 FORMULA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ttangolo 2"/>
          <p:cNvSpPr/>
          <p:nvPr/>
        </p:nvSpPr>
        <p:spPr>
          <a:xfrm>
            <a:off x="4643280" y="907920"/>
            <a:ext cx="3673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78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 DISPENSABIL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SENZ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 PRESENTA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RICET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 MED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CasellaDiTesto 4" descr=""/>
          <p:cNvPicPr/>
          <p:nvPr/>
        </p:nvPicPr>
        <p:blipFill>
          <a:blip r:embed="rId1"/>
          <a:stretch/>
        </p:blipFill>
        <p:spPr>
          <a:xfrm>
            <a:off x="1109520" y="2876400"/>
            <a:ext cx="3035520" cy="204336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5"/>
          <p:cNvSpPr/>
          <p:nvPr/>
        </p:nvSpPr>
        <p:spPr>
          <a:xfrm>
            <a:off x="1403280" y="44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PARAZIONI OFFICINALI DISPENSABILI SENZA PRESENTAZIONE DI RICETTA MED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CasellaDiTesto 6"/>
          <p:cNvSpPr/>
          <p:nvPr/>
        </p:nvSpPr>
        <p:spPr>
          <a:xfrm>
            <a:off x="6084720" y="2852640"/>
            <a:ext cx="251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luminio oss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io carbona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rbo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gnesio carbona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gnesio idross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n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leri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Freccia a destra 7"/>
          <p:cNvSpPr/>
          <p:nvPr/>
        </p:nvSpPr>
        <p:spPr>
          <a:xfrm>
            <a:off x="3635280" y="1052640"/>
            <a:ext cx="792360" cy="36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ttangolo 9"/>
          <p:cNvSpPr/>
          <p:nvPr/>
        </p:nvSpPr>
        <p:spPr>
          <a:xfrm>
            <a:off x="1061640" y="2206800"/>
            <a:ext cx="35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preparazioni ad Uso Este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6 principi attivi fra cu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reccia in giù 10"/>
          <p:cNvSpPr/>
          <p:nvPr/>
        </p:nvSpPr>
        <p:spPr>
          <a:xfrm rot="20090400">
            <a:off x="6973560" y="1649160"/>
            <a:ext cx="431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ba3e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reccia in giù 11"/>
          <p:cNvSpPr/>
          <p:nvPr/>
        </p:nvSpPr>
        <p:spPr>
          <a:xfrm rot="2635200">
            <a:off x="4617720" y="1636560"/>
            <a:ext cx="431640" cy="503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ba3e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ttangolo 12"/>
          <p:cNvSpPr/>
          <p:nvPr/>
        </p:nvSpPr>
        <p:spPr>
          <a:xfrm>
            <a:off x="5348160" y="2205000"/>
            <a:ext cx="35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8 preparazioni ad Uso Inte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1 principi attivi fra cu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ttangolo 13"/>
          <p:cNvSpPr/>
          <p:nvPr/>
        </p:nvSpPr>
        <p:spPr>
          <a:xfrm>
            <a:off x="971640" y="2133720"/>
            <a:ext cx="3744720" cy="29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ttangolo 14"/>
          <p:cNvSpPr/>
          <p:nvPr/>
        </p:nvSpPr>
        <p:spPr>
          <a:xfrm>
            <a:off x="5329080" y="2133720"/>
            <a:ext cx="3564000" cy="29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CasellaDiTesto 15"/>
          <p:cNvSpPr/>
          <p:nvPr/>
        </p:nvSpPr>
        <p:spPr>
          <a:xfrm>
            <a:off x="34920" y="602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lgs 1 del 24/01/1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esci Italia”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3059280" y="5810400"/>
            <a:ext cx="5868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Autorizzati… ad allestire preparazioni galeniche officinali che </a:t>
            </a:r>
            <a:r>
              <a:rPr b="1" i="1" lang="it-IT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non prevedono la presentazione di ricetta medica</a:t>
            </a:r>
            <a:r>
              <a:rPr b="0" i="1" lang="it-IT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, anche in multipli, in base a quanto previsto nella Farmacopea Ufficiale italiana o nella Farmacopea Europe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Freccia a destra 17"/>
          <p:cNvSpPr/>
          <p:nvPr/>
        </p:nvSpPr>
        <p:spPr>
          <a:xfrm>
            <a:off x="2411280" y="6165720"/>
            <a:ext cx="576360" cy="358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ttangolo 18"/>
          <p:cNvSpPr/>
          <p:nvPr/>
        </p:nvSpPr>
        <p:spPr>
          <a:xfrm>
            <a:off x="361080" y="5589720"/>
            <a:ext cx="2108520" cy="368280"/>
          </a:xfrm>
          <a:prstGeom prst="rect">
            <a:avLst/>
          </a:prstGeom>
          <a:solidFill>
            <a:srgbClr val="ffff7d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PARAFARMACI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79280" y="44280"/>
            <a:ext cx="8801280" cy="65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CETTA RIPETIBILE (R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menti di compi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cri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rma del med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Il nome del paziente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ovrebb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ssere apposto dal medico per preparazioni magistral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lidità: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 me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renta giorni se per medicinali di cui alla Tabella II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petibilità: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 dispensazioni*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restituire al cliente ma non più utilizzabi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 tre dispensazione se Tabella II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umero di confezioni dello stesso medicinale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gt;1     NO RIPETIBILIT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egna in un'unica soluzione o in modo dilazionato, poi ricetta non più valid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blighi per il farmac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rollo form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porre data, timbro e prezzo e numero di confezioni dispensato ad ogni spedizion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MULE MAGISTR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re dos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Tabella 8) oppure che il medico si assuma la responsabilità del dosaggio e indichi l'u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ervare copia della ricetta per sei me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179280" y="891360"/>
            <a:ext cx="867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Con l’entrata in vigore de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DM 26/02/2010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“integrazioni e correzioni alla XII edizione della Farmacopea Ufficiale della Repubblica Italiana” è stat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  <a:ea typeface="Calibri"/>
              </a:rPr>
              <a:t>eliminata la n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, di seguito riportata, presente nel testo originale della tabella 4 della FU XI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Sono altresì esentati dalla vendita dietro presentazione di ricetta medica i preparati officinali allestiti in farmacia che contengano una quantità per dose e per confezione di principio attivo uguale o inferiore a quella del medicinale industriale esentato in sede di AIC ad eccezione di quelli che sono soggetti alla Legge 14/12/2000, n. 376, e successive modificazioni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ttangolo 11"/>
          <p:cNvSpPr/>
          <p:nvPr/>
        </p:nvSpPr>
        <p:spPr>
          <a:xfrm>
            <a:off x="2627280" y="108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  <a:ea typeface="Calibri"/>
              </a:rPr>
              <a:t>TAB 4 – FU XII 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ttangolo 12"/>
          <p:cNvSpPr/>
          <p:nvPr/>
        </p:nvSpPr>
        <p:spPr>
          <a:xfrm>
            <a:off x="539640" y="458136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  <a:ea typeface="Calibri"/>
              </a:rPr>
              <a:t>Con l’abolizione della nota di cui sopra, il numero di preparazioni galeniche dispensabili senza presentazione di ricetta medica è stato fortemente ridot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uppo 4"/>
          <p:cNvGrpSpPr/>
          <p:nvPr/>
        </p:nvGrpSpPr>
        <p:grpSpPr>
          <a:xfrm>
            <a:off x="684360" y="777960"/>
            <a:ext cx="7559640" cy="2579760"/>
            <a:chOff x="684360" y="777960"/>
            <a:chExt cx="7559640" cy="2579760"/>
          </a:xfrm>
        </p:grpSpPr>
        <p:sp>
          <p:nvSpPr>
            <p:cNvPr id="162" name="Text Box 2"/>
            <p:cNvSpPr/>
            <p:nvPr/>
          </p:nvSpPr>
          <p:spPr>
            <a:xfrm>
              <a:off x="684360" y="777960"/>
              <a:ext cx="7559640" cy="24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NORME DI BUONA PREPARAZION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DEI MEDICINALI IN FARMACI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(N.B.P.) FU XII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ff0000"/>
                  </a:solidFill>
                  <a:latin typeface="Tahoma"/>
                </a:rPr>
                <a:t>Principi Generali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"/>
            <p:cNvSpPr/>
            <p:nvPr/>
          </p:nvSpPr>
          <p:spPr>
            <a:xfrm>
              <a:off x="2050920" y="2492640"/>
              <a:ext cx="4826160" cy="86508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Text Box 5"/>
          <p:cNvSpPr/>
          <p:nvPr/>
        </p:nvSpPr>
        <p:spPr>
          <a:xfrm>
            <a:off x="71280" y="46180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ahoma"/>
                <a:ea typeface="Tahoma"/>
              </a:rPr>
              <a:t>L’esecuzione di un medicinale su ordinazione del medico o in base alle indicazioni di una Farmacopea è una </a:t>
            </a:r>
            <a:r>
              <a:rPr b="0" lang="it-IT" sz="2400" spc="-1" strike="noStrike" u="sng">
                <a:solidFill>
                  <a:srgbClr val="0033cc"/>
                </a:solidFill>
                <a:uFillTx/>
                <a:latin typeface="Tahoma"/>
                <a:ea typeface="Tahoma"/>
              </a:rPr>
              <a:t>COMPETENZA IMPORTANTE ED ESCLUSIVA</a:t>
            </a:r>
            <a:r>
              <a:rPr b="0" lang="it-IT" sz="2400" spc="-1" strike="noStrike">
                <a:solidFill>
                  <a:srgbClr val="0033cc"/>
                </a:solidFill>
                <a:latin typeface="Tahoma"/>
                <a:ea typeface="Tahoma"/>
              </a:rPr>
              <a:t> della professione del farmaci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08000" y="534960"/>
            <a:ext cx="8856720" cy="62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menti di compi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dice fiscale o nome e cognome od iniziali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per ragioni di riservatezz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crizione (Dosi in tutte lettere per sostanze tabella 3 FU XI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rma del med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lidità: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renta giorn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sclusa la data di compilazione per una sola spedi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 limit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nel numero di medicinali prescritti in una ricetta,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lvo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indicazioni specifich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sostanze velenos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in dosi non medicamentose o pericolose: assunzione scritta di responsabilità del med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blighi per il farmacista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rollo formal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re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he le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osi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icate siano compatibili con quelle di Tabella 8 oppure che il medico si assuma la responsabilità del sovradosaggio ed indichi l'uso (galenici magistral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porre data e prezzo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il timbro solo per le ricette SSN, ma sempre consigliabi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ervare la ricetta in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originale per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ei mesi; due ann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e medicinale di Tabelle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 B e II C o TDL II D*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l caso di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len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apporre in etichetta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l contrassegno che indica la presenza di veleno e consegnare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persona di età non inferiore a SEDICI ANNI, prendendo nota del nome dell'acquirente (galenici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o soggette a RNR preparazioni contenenti farmaci, sostanze biologicamente o farmacologicamente attive,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l cui impiego è considerato doping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ppartenenti alla lista approvata con il DM 15/10/02 modificato 03/02/06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TDL: all’atto della dispensazione dei medicinali inseriti nella tab. II sez. D successivamente alla data del 15/06/09 annotare sulla ricetta il nome, il cognome e gli estremi di un documento di riconoscimento dell’acquiren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042280" y="4428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CETTA NON RIPETIBILE (RN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26"/>
          <p:cNvSpPr/>
          <p:nvPr/>
        </p:nvSpPr>
        <p:spPr>
          <a:xfrm>
            <a:off x="152280" y="692280"/>
            <a:ext cx="88394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DISCIPLINA ANTIDO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’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tichettatura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le formule magistrali e/o officinali contenenti sostanze incluse nella 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lista delle sostanze e pratiche mediche il cui impiego è vietato per doping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” viene disciplinata con il DM 19/05/2005 e deve riportare la fras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6ff66"/>
                </a:solidFill>
                <a:latin typeface="Arial Narrow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er chi svolge attività sportiva: l’uso del farmaco senza necessità terapeutica costituisce doping </a:t>
            </a:r>
            <a:r>
              <a:rPr b="1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 può determinare comunque positività ai test anti-doping</a:t>
            </a: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</a:t>
            </a:r>
            <a:r>
              <a:rPr b="0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.          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o topico: classi S5, S6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ttenzione per chi svolge attività sportive: il prodotto contiene sostanze vietate per doping. E’ vietata un’assunzione diversa, per schema posologico e per via di somministrazione, da quelle prescritte </a:t>
            </a:r>
            <a:r>
              <a:rPr b="0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”  </a:t>
            </a: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cc00"/>
                </a:solidFill>
                <a:latin typeface="Arial Narrow"/>
                <a:ea typeface="Times New Roman"/>
              </a:rPr>
              <a:t>  </a:t>
            </a: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cool etilico come eccipien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è l’unica sostanza vietata per doping*, la frase da riportare è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“</a:t>
            </a:r>
            <a:r>
              <a:rPr b="0" i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er chi svolge attività sportive: questo preparato contiene alcool etilico e può determinare positività ai test antidoping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DM 10 marzo 2006: ad eccezione delle preparazioni  per uso topico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0" y="206280"/>
            <a:ext cx="90727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DECRETO MINISTERIALE 24 OTTOBRE 20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alità di trasmissione, da parte dei farmacisti, dei dati relativi alle quantità di principi attivi, appartenenti alle classi indicate nella lista dei farmaci e delle sostanze biologicamente o farmacologicamente attive e delle pratiche mediche, il cui impiego è considerato doping, ai sensi dell’articolo 2 della legge 14 dicembre 2000, n. 376, utilizzati nelle preparazioni estemporane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ticolo 1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I farmacisti sono tenuti a trasmettere, </a:t>
            </a:r>
            <a:r>
              <a:rPr b="0" lang="it-IT" sz="16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esclusivamente in modalità elettronica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</a:t>
            </a:r>
            <a:r>
              <a:rPr b="0" lang="it-IT" sz="16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entro il 31 gennaio di ogni anno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inistero della Salute i </a:t>
            </a:r>
            <a:r>
              <a:rPr b="1" lang="it-IT" sz="16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dati riferiti all’anno precedente relativi alle quantità utilizzate e vendute di ogni singolo principio attivo vietato per doping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 partire dall’anno 2006, secondo le modalità indicate sul sito internet del Ministero della Salute all’indirizzo: www.ministerosalute.i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 </a:t>
            </a:r>
            <a:r>
              <a:rPr b="1" lang="it-IT" sz="1600" spc="-1" strike="noStrike">
                <a:solidFill>
                  <a:srgbClr val="632523"/>
                </a:solidFill>
                <a:latin typeface="Arial Narrow"/>
                <a:ea typeface="Times New Roman"/>
              </a:rPr>
              <a:t>NON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ono soggetti a trasmissione i dati relativi alle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antità di </a:t>
            </a:r>
            <a:r>
              <a:rPr b="1" lang="it-IT" sz="1600" spc="-1" strike="noStrike">
                <a:solidFill>
                  <a:srgbClr val="632523"/>
                </a:solidFill>
                <a:latin typeface="Arial Narrow"/>
                <a:ea typeface="Times New Roman"/>
              </a:rPr>
              <a:t>alcool etilico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tilizzate, ai sensi del decreto 19 maggio 2005 citato in premessa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antità di </a:t>
            </a:r>
            <a:r>
              <a:rPr b="1" lang="it-IT" sz="1600" spc="-1" strike="noStrike">
                <a:solidFill>
                  <a:srgbClr val="632523"/>
                </a:solidFill>
                <a:latin typeface="Arial Narrow"/>
                <a:ea typeface="Times New Roman"/>
              </a:rPr>
              <a:t>mannitolo utilizzate per via diversa da quella endovenosa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 quantità dei principi attivi di cui alla classe S9 – </a:t>
            </a:r>
            <a:r>
              <a:rPr b="1" lang="it-IT" sz="1600" spc="-1" strike="noStrike">
                <a:solidFill>
                  <a:srgbClr val="632523"/>
                </a:solidFill>
                <a:latin typeface="Arial Narrow"/>
                <a:ea typeface="Times New Roman"/>
              </a:rPr>
              <a:t>Corticosteroidi, utilizzate per le preparazioni per uso topico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ivi comprese quelle per uso cutaneo, oftalmico, auricolare, nasale ed orofaringeo, ai sensi del decreto 3 febbraio 2006 citato in premess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-bis) quantità di glicerolo utilizzate esclusivamente come eccipiente per la preparazione di medicamenti per uso topico e per uso orale (modifica introdotta con DM 18/11/2010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 Il farmacista è tenuto a </a:t>
            </a:r>
            <a:r>
              <a:rPr b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onservare, in originale o in copia, le ricette o i fogli di lavorazione che giustificano l’allestimento di tutti i preparat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tenenti sostanze vietate per doping soggetti a trasmissione dei dati </a:t>
            </a:r>
            <a:r>
              <a:rPr b="1" lang="it-IT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er sei mesi, a decorrere dal 31 gennaio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l’anno in cui viene effettuata la trasmissione dei dati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CasellaDiTesto 2"/>
          <p:cNvSpPr/>
          <p:nvPr/>
        </p:nvSpPr>
        <p:spPr>
          <a:xfrm>
            <a:off x="4567320" y="2781360"/>
            <a:ext cx="3857400" cy="337320"/>
          </a:xfrm>
          <a:prstGeom prst="rect">
            <a:avLst/>
          </a:prstGeom>
          <a:solidFill>
            <a:srgbClr val="cecee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Preparazioni.doping@sanità.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reccia in giù 3"/>
          <p:cNvSpPr/>
          <p:nvPr/>
        </p:nvSpPr>
        <p:spPr>
          <a:xfrm rot="16200000">
            <a:off x="4120200" y="2728080"/>
            <a:ext cx="214560" cy="46368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cecee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Ovale 4"/>
          <p:cNvSpPr/>
          <p:nvPr/>
        </p:nvSpPr>
        <p:spPr>
          <a:xfrm>
            <a:off x="1692360" y="2708280"/>
            <a:ext cx="221292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asellaDiTesto 1"/>
          <p:cNvSpPr/>
          <p:nvPr/>
        </p:nvSpPr>
        <p:spPr>
          <a:xfrm>
            <a:off x="2411280" y="115920"/>
            <a:ext cx="4537080" cy="520560"/>
          </a:xfrm>
          <a:prstGeom prst="rect">
            <a:avLst/>
          </a:prstGeom>
          <a:solidFill>
            <a:srgbClr val="d9d9d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GLICERO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CasellaDiTesto 1"/>
          <p:cNvSpPr/>
          <p:nvPr/>
        </p:nvSpPr>
        <p:spPr>
          <a:xfrm>
            <a:off x="2030400" y="620640"/>
            <a:ext cx="55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rt. 1 DM 24 OTTOBRE 2006 e s.m.i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CasellaDiTesto 3"/>
          <p:cNvSpPr/>
          <p:nvPr/>
        </p:nvSpPr>
        <p:spPr>
          <a:xfrm>
            <a:off x="81000" y="1413000"/>
            <a:ext cx="8955000" cy="46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 farmacisti sono tenuti a trasmettere, esclusivamente in modalità elettronic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tro il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1 gennaio di ogni anno al Ministero della salute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i dati  riferiti all’anno precedente relativi alle quantità utilizzate e vendute di ogni sing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incipio attivo vietato per doping, a partire dall’anno 2006, secondo le modalità indicate sul sito internet del Ministero della salute all’indirizzo: www.ministerosalute.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Non sono soggetti a trasmis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i dati relativi al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[..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-bis) </a:t>
            </a:r>
            <a:r>
              <a:rPr b="1" i="1" lang="it-IT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quantità di glicerol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tilizzate esclusiv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me </a:t>
            </a:r>
            <a:r>
              <a:rPr b="1" i="1" lang="it-IT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eccipiente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er la preparazione di medicamenti per us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pico e per uso oral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modifica introdotta con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M 18/11/201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ttangolo 1"/>
          <p:cNvSpPr/>
          <p:nvPr/>
        </p:nvSpPr>
        <p:spPr>
          <a:xfrm>
            <a:off x="395280" y="222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MITAZIONI RELATIVE ALLA DISPENSAZIONE DI MEDICINALI ANORESSIZZANTI AD AZIONE CENT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71280" y="1455480"/>
            <a:ext cx="896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 DM 2 agosto 2011 le sostanze Amfepramone, Fendimetrazina, Fentermina e Mazindolo sono state ricollocate dalla tabella II sez. B alla tabella I del D.P.R. 309/90 ed s.m.i. tra le sostanze suscettibili ad abus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tanto è fatto divieto ai farmacisti di eseguire preparazioni magistrali contenenti le predette sostanze ed i medici sono tenuti ad esentarsi dal prescriver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seguito all’entrata in vigore del DM 2 agosto 2011 sono state presentate numerose istanze al T.A.R. del Lazio al fine di ottenerne l’annullamento. In data 6 dicembre 2011 il T.A.R. del Lazio ha rigettato le istanze di cui sopra confermando che il decreto in questione è pienamente vig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ttangolo 3"/>
          <p:cNvSpPr/>
          <p:nvPr/>
        </p:nvSpPr>
        <p:spPr>
          <a:xfrm>
            <a:off x="179280" y="50846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d oggi non è consentito l’uso di nessuna sostanza ad azione anoressizzante per l’allestimento di medicinali galenic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108000" y="1088280"/>
            <a:ext cx="896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egge n. 94 del 8 aprile 1998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"Conversione in legge, con modificazioni, del decreto-legge 17 febbraio 1998, n. 23, recante disposizioni urgenti in materia di sperimentazioni cliniche in campo oncologico e altre misure in materia sanitaria"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ticolo 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3. Il medico deve ottenere il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consenso del pazie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al trattamento medico 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specificare nella ricetta le esigenze particolar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che giustificano il ricorso alla prescrizione estemporanea. Nella ricetta il medico dovrà trascrivere, senza riportare le generalità del paziente, un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riferimento numerico o alfanumeri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di collegamento a dati d'archivio in proprio possesso che consenta, in caso di richiesta da parte dell'autorità sanitaria, di risalire all'identità del paziente trattato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4. Le ricette di cui al comma 3, in originale o in copia, sono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trasmesse mensilmente dal farmacista all'azienda unità sanitaria locale o all'azienda ospedaliera, che le inoltrano al Ministero della Salute</a:t>
            </a:r>
            <a:r>
              <a:rPr b="1" lang="it-IT" sz="1600" spc="-1" strike="noStrike">
                <a:solidFill>
                  <a:srgbClr val="161645"/>
                </a:solidFill>
                <a:latin typeface="Calibri"/>
                <a:ea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5. Le disposizioni dei commi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3 e 4 non si applica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quando il medicinale è prescritto per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indicazioni terapeutiche corrispondent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a quelle dei medicinali industriali autorizzati a base dello stesso principio attivo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6. La violazione, da parte del medico o del farmacista, delle disposizioni del presente articolo 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è oggetto di </a:t>
            </a:r>
            <a:r>
              <a:rPr b="1" i="1" lang="it-IT" sz="1600" spc="-1" strike="noStrike">
                <a:solidFill>
                  <a:srgbClr val="002060"/>
                </a:solidFill>
                <a:latin typeface="Calibri"/>
                <a:ea typeface="Calibri"/>
              </a:rPr>
              <a:t>procedimento disciplina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i sensi del decreto legislativo del Capo provvisorio dello Stato 13 settembre 1946, n. 23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CasellaDiTesto 2"/>
          <p:cNvSpPr/>
          <p:nvPr/>
        </p:nvSpPr>
        <p:spPr>
          <a:xfrm>
            <a:off x="819000" y="44280"/>
            <a:ext cx="75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RAPIE OFF LABEL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SCRIZIONE E DISPENSAZIONE DI PREPARAZIONI GALENI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236520" y="819000"/>
            <a:ext cx="858348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gge 8 febbraio 2001 n. 12: “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rme per agevolare l'impiego dei farmaci analgesici oppiacei nella terapia del dolor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"/>
              </a:rPr>
              <a:t>”.  DM 4.4.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mportanti modifiche al DPR. 309/90 allo scopo di rendere più agevole la prescrizione, la dispensazione e la somministrazione di medicinali contenenti determinati farmaci stupefacenti nella terapia del dolore per particolari patologie. I farmaci per i quali sono previste modalità prescrittive semplificate, elencati n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allegato III-bis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Arial"/>
              </a:rPr>
              <a:t>, son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Buprenorfina Codeina Diidrocodeina Fentanyl Idrocodone Idromorf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Metadone Morfina Ossicodone Ossimorf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 Narrow"/>
                <a:ea typeface="Arial"/>
              </a:rPr>
              <a:t>Tapentadolo </a:t>
            </a:r>
            <a:r>
              <a:rPr b="0" lang="it-IT" sz="2000" spc="-1" strike="noStrike">
                <a:solidFill>
                  <a:srgbClr val="ff0000"/>
                </a:solidFill>
                <a:latin typeface="Arial Narrow"/>
                <a:ea typeface="Arial"/>
              </a:rPr>
              <a:t>(</a:t>
            </a:r>
            <a:r>
              <a:rPr b="0" lang="it-IT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DM 31 marzo 2011</a:t>
            </a:r>
            <a:r>
              <a:rPr b="0" lang="it-IT" sz="2000" spc="-1" strike="noStrike">
                <a:solidFill>
                  <a:srgbClr val="ff0000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er la terapia del dolore si può prescrivere un solo farmaco, due farmaci diversi tra loro o lo stesso farmaco con due dosaggi diversi tra loro</a:t>
            </a: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54000" y="44280"/>
            <a:ext cx="899964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RICETTA  A RICALCO MODELLO MINISTERIALE  (R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ferimenti normativ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.P.R. 9 ottobre 1990 n. 309. 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"Testo unico delle leggi in materia di disciplina degli stupefacenti e sostanze psicotrope, prevenzione cura e riabilitazione dei relativi stati di tossicodipendenza"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e successive modificazioni e integrazioni. -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Legge 21 febbraio 2006, n. 49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Legge 8 febbraio 2001, n. 12,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"Norme per agevolare l'impiego dei farmaci analgesici oppiacei nella terapia del dolore"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. Importanti modifiche allo scopo di facilitare l'accesso ai medicinali oppiacei ad attività analgesica ai pazienti affetti da dolore severo dovuto ad una patologia neoplastica o degenerativ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menti di compi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e e cogn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rescrizion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Arial"/>
              </a:rPr>
              <a:t>: dose, modo e tempo di somministrazio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antità massima prescrivibil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iascuna prescrizione deve essere limitata ad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una sola preparazione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d un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solo dosaggio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er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ra di durata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non superiore a trenta giorn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ia in regime privato che in regime di SS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egato III bis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la prescrizione può comprendere in un'unica ricetta fino </a:t>
            </a:r>
            <a:r>
              <a:rPr b="0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</a:t>
            </a: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e preparazioni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e dosaggi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ufficienti a coprire </a:t>
            </a: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a terapia massima di trenta giorn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ia in regime privato sia in regime di SS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rma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medico chirur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292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omicilio, numero telefonico e timbro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medico chirurgo</a:t>
            </a:r>
            <a:r>
              <a:rPr b="0" lang="it-IT" sz="1600" spc="-1" strike="noStrike">
                <a:solidFill>
                  <a:srgbClr val="ff66ff"/>
                </a:solidFill>
                <a:latin typeface="Arial Narrow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ff66ff"/>
                </a:solidFill>
                <a:latin typeface="Arial Narro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lidità: </a:t>
            </a:r>
            <a:r>
              <a:rPr b="1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renta giorni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scluso quello di compi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79280" y="768240"/>
            <a:ext cx="86598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Obblighi per il farmac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84200" indent="-293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rollo formale  (tabella II 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84200" indent="-293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porre</a:t>
            </a: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ata, timbro e prez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84200" indent="-293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vieto di consegna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persona minore di 18 anni o manifestamente insana di mente (art. 44, DPR 309/90)  </a:t>
            </a:r>
            <a:r>
              <a:rPr b="1" lang="it-IT" sz="20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[di fatto obbligatorio per tutte le sezion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84200" indent="-293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certamento dell’identità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l’acquirente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prendendo nota degli estremi del documento di riconoscimento in calce alla ricetta (art. 45, DPR 309/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ricetta va </a:t>
            </a:r>
            <a:r>
              <a:rPr b="0" i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piata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l registro di entrata e uscita e </a:t>
            </a:r>
            <a:r>
              <a:rPr b="0" i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ervata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originale in Farmacia </a:t>
            </a:r>
            <a:r>
              <a:rPr b="1" i="1" lang="it-IT" sz="20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per 2 anni</a:t>
            </a:r>
            <a:r>
              <a:rPr b="0" i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all’ultima registrazione, quale elemento giustificativo dello scarico. In caso di smarrimento, furto o distruzione di una o più ricette corre l'obbligo di denuncia all'Autorità di pubblica sicurezza entro 24 h dal momento in cui ci si accorge del fatto e segnalazione all'A.S.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.B. </a:t>
            </a:r>
            <a:r>
              <a:rPr b="1" lang="it-IT" sz="2000" spc="-1" strike="noStrike">
                <a:solidFill>
                  <a:srgbClr val="575f6d"/>
                </a:solidFill>
                <a:latin typeface="Arial Narrow"/>
                <a:ea typeface="Times New Roman"/>
              </a:rPr>
              <a:t>L’assistito deve conservare una copia della ric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108000" y="258480"/>
            <a:ext cx="896292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PRESCRIZIONE E DISPENSAZIONE DI MEDICINALI  DI CUI ALL’ALLEGATO </a:t>
            </a:r>
            <a:r>
              <a:rPr b="1" i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I-B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99ff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 la Legge 38 del 15 marzo 2010 è stata introdotta la possibilità di utilizzare la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ricetta SSN al pari della RRM</a:t>
            </a:r>
            <a:r>
              <a:rPr b="1" lang="it-IT" sz="2400" spc="-1" strike="noStrike">
                <a:solidFill>
                  <a:srgbClr val="ff99ff"/>
                </a:solidFill>
                <a:latin typeface="Calibri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er prescrivere, nel trattamento del dolore severo, anche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 medicinali dell’Allegato III-bis della sezion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99ff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ta ferma la possibilità di utilizzare la RRM e si intendono confermate le seguenti modalità di rimborso, già adottate in precedenti fattispecie di coesistenza della ricetta SSN e RR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e prescrizioni redatte sul ricettario a ricalco sono esentate dalla corresponsione della quota fissa; è prescrivibile al massimo la terapia non superiore ai 30 giorn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one Piemonte: sono esentate dalla quota fissa le prescrizioni effettuate sul ricettario SSN, apposizione del codice TDL, e sono prescrivibili al massimo 6 confezioni per ricetta per un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terapia non superiore ai 30 giorni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utte le altre prescrizioni redatte su ricettario normale SSN sono invece assoggettate al pagamento della quota fissa di 2 € a confezione (1 € in caso di esenzione per patologia) salvo esenzioni totali per invalidità/reddito. Possono essere prescritte 2 confezioni per ricetta, elevate a 3 in caso di patologia che prevede la pluriprescrizione, nei limiti della vigente normativ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er i medicinali della sezione A, compresi quelli dell’allegato III bis prescritti su ricettario SSN, il farmacista deve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annotare sulla ricetta anche il nome e il cognome dell’acquirente, oltre agli estremi del documento di riconoscimento dello stesso</a:t>
            </a:r>
            <a:r>
              <a:rPr b="1" lang="it-IT" sz="1400" spc="-1" strike="noStrike">
                <a:solidFill>
                  <a:srgbClr val="ff99ff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216000" y="1022400"/>
            <a:ext cx="8820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SCOP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garantire la </a:t>
            </a:r>
            <a:r>
              <a:rPr b="1" lang="it-IT" sz="2400" spc="-1" strike="noStrike" u="sng">
                <a:solidFill>
                  <a:srgbClr val="33cc33"/>
                </a:solidFill>
                <a:uFillTx/>
                <a:latin typeface="Tahoma"/>
                <a:ea typeface="Tahoma"/>
              </a:rPr>
              <a:t>qual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come supporto imprescindibile a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it-IT" sz="2800" spc="-1" strike="noStrike" u="sng">
                <a:solidFill>
                  <a:srgbClr val="33cc33"/>
                </a:solidFill>
                <a:uFillTx/>
                <a:latin typeface="Arial"/>
              </a:rPr>
              <a:t>sicurezz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it-IT" sz="2400" spc="-1" strike="noStrike" u="sng">
                <a:solidFill>
                  <a:srgbClr val="33cc33"/>
                </a:solidFill>
                <a:uFillTx/>
                <a:latin typeface="Tahoma"/>
                <a:ea typeface="Tahoma"/>
              </a:rPr>
              <a:t>effica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68360" y="36576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gestione della qualità in farmaci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è condotta mediante un </a:t>
            </a:r>
            <a:r>
              <a:rPr b="0" lang="it-IT" sz="2400" spc="-1" strike="noStrike">
                <a:solidFill>
                  <a:srgbClr val="33cc33"/>
                </a:solidFill>
                <a:latin typeface="Tahoma"/>
                <a:ea typeface="Tahoma"/>
              </a:rPr>
              <a:t>SAQ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garantito 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ff66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RESPONS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Tahoma"/>
                <a:ea typeface="Tahoma"/>
              </a:rPr>
              <a:t>DOCUMENTAZIONE DELL’A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4140360" y="2709720"/>
            <a:ext cx="502920" cy="719280"/>
          </a:xfrm>
          <a:prstGeom prst="downArrow">
            <a:avLst>
              <a:gd name="adj1" fmla="val 50000"/>
              <a:gd name="adj2" fmla="val 35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124000" y="4797360"/>
            <a:ext cx="5256360" cy="1152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? 3"/>
          <p:cNvSpPr/>
          <p:nvPr/>
        </p:nvSpPr>
        <p:spPr>
          <a:xfrm>
            <a:off x="2428920" y="1714680"/>
            <a:ext cx="4286160" cy="3643200"/>
          </a:xfrm>
          <a:custGeom>
            <a:avLst/>
            <a:gdLst>
              <a:gd name="textAreaLeft" fmla="*/ 235800 w 4286160"/>
              <a:gd name="textAreaRight" fmla="*/ 4050360 w 4286160"/>
              <a:gd name="textAreaTop" fmla="*/ 235800 h 3643200"/>
              <a:gd name="textAreaBottom" fmla="*/ 3407400 h 3643200"/>
            </a:gdLst>
            <a:ahLst/>
            <a:rect l="textAreaLeft" t="textAreaTop" r="textAreaRight" b="textAreaBottom"/>
            <a:pathLst>
              <a:path w="25412" h="21600">
                <a:moveTo>
                  <a:pt x="0" y="0"/>
                </a:moveTo>
                <a:lnTo>
                  <a:pt x="25412" y="0"/>
                </a:lnTo>
                <a:lnTo>
                  <a:pt x="25412" y="21600"/>
                </a:lnTo>
                <a:lnTo>
                  <a:pt x="0" y="21600"/>
                </a:lnTo>
                <a:close/>
              </a:path>
              <a:path fill="lightenLess" w="25412" h="21600">
                <a:moveTo>
                  <a:pt x="0" y="0"/>
                </a:moveTo>
                <a:lnTo>
                  <a:pt x="25412" y="0"/>
                </a:lnTo>
                <a:lnTo>
                  <a:pt x="24012" y="1400"/>
                </a:lnTo>
                <a:lnTo>
                  <a:pt x="1400" y="1400"/>
                </a:lnTo>
                <a:close/>
              </a:path>
              <a:path fill="darken" w="25412" h="21600">
                <a:moveTo>
                  <a:pt x="25412" y="0"/>
                </a:moveTo>
                <a:lnTo>
                  <a:pt x="25412" y="21600"/>
                </a:lnTo>
                <a:lnTo>
                  <a:pt x="24012" y="20200"/>
                </a:lnTo>
                <a:lnTo>
                  <a:pt x="24012" y="1400"/>
                </a:lnTo>
                <a:close/>
              </a:path>
              <a:path fill="darkenLess" w="25412" h="21600">
                <a:moveTo>
                  <a:pt x="25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2" y="20200"/>
                </a:lnTo>
                <a:close/>
              </a:path>
              <a:path fill="lighten" w="25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2" h="21600">
                <a:moveTo>
                  <a:pt x="127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412" h="21600">
                <a:moveTo>
                  <a:pt x="13811" y="14281"/>
                </a:moveTo>
                <a:lnTo>
                  <a:pt x="13811" y="12323"/>
                </a:lnTo>
                <a:cubicBezTo>
                  <a:pt x="13811" y="11496"/>
                  <a:pt x="14142" y="10800"/>
                  <a:pt x="14742" y="10800"/>
                </a:cubicBezTo>
                <a:cubicBezTo>
                  <a:pt x="15874" y="10800"/>
                  <a:pt x="16770" y="9434"/>
                  <a:pt x="16770" y="7849"/>
                </a:cubicBezTo>
                <a:cubicBezTo>
                  <a:pt x="16770" y="5534"/>
                  <a:pt x="14917" y="3794"/>
                  <a:pt x="12706" y="3794"/>
                </a:cubicBezTo>
                <a:cubicBezTo>
                  <a:pt x="10495" y="3794"/>
                  <a:pt x="8824" y="5534"/>
                  <a:pt x="8824" y="7849"/>
                </a:cubicBezTo>
                <a:lnTo>
                  <a:pt x="10678" y="7849"/>
                </a:lnTo>
                <a:cubicBezTo>
                  <a:pt x="10678" y="6709"/>
                  <a:pt x="11600" y="5821"/>
                  <a:pt x="12706" y="5821"/>
                </a:cubicBezTo>
                <a:cubicBezTo>
                  <a:pt x="13811" y="5821"/>
                  <a:pt x="14742" y="6709"/>
                  <a:pt x="14742" y="7849"/>
                </a:cubicBezTo>
                <a:cubicBezTo>
                  <a:pt x="14742" y="8589"/>
                  <a:pt x="14272" y="9320"/>
                  <a:pt x="13811" y="9320"/>
                </a:cubicBezTo>
                <a:cubicBezTo>
                  <a:pt x="12706" y="9320"/>
                  <a:pt x="11600" y="10800"/>
                  <a:pt x="11600" y="12323"/>
                </a:cubicBezTo>
                <a:lnTo>
                  <a:pt x="11600" y="14281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D:\Francesca\Prontuario\CEA\loghi foto\Immagine mortaio.jpg"/>
          <p:cNvPicPr/>
          <p:nvPr/>
        </p:nvPicPr>
        <p:blipFill>
          <a:blip r:embed="rId1"/>
          <a:stretch/>
        </p:blipFill>
        <p:spPr>
          <a:xfrm>
            <a:off x="2975040" y="1722600"/>
            <a:ext cx="2954160" cy="2920680"/>
          </a:xfrm>
          <a:prstGeom prst="rect">
            <a:avLst/>
          </a:prstGeom>
          <a:ln w="0">
            <a:noFill/>
          </a:ln>
        </p:spPr>
      </p:pic>
      <p:sp>
        <p:nvSpPr>
          <p:cNvPr id="411" name="Freccia a destra con strisce 12"/>
          <p:cNvSpPr/>
          <p:nvPr/>
        </p:nvSpPr>
        <p:spPr>
          <a:xfrm rot="14282400">
            <a:off x="3829680" y="827640"/>
            <a:ext cx="714240" cy="500040"/>
          </a:xfrm>
          <a:custGeom>
            <a:avLst/>
            <a:gdLst>
              <a:gd name="textAreaLeft" fmla="*/ 781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2"/>
                </a:lnTo>
                <a:lnTo>
                  <a:pt x="464344" y="500063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Freccia a destra con strisce 13"/>
          <p:cNvSpPr/>
          <p:nvPr/>
        </p:nvSpPr>
        <p:spPr>
          <a:xfrm rot="10800000">
            <a:off x="1988640" y="3169800"/>
            <a:ext cx="714600" cy="500040"/>
          </a:xfrm>
          <a:custGeom>
            <a:avLst/>
            <a:gdLst>
              <a:gd name="textAreaLeft" fmla="*/ 78120 w 714600"/>
              <a:gd name="textAreaRight" fmla="*/ 589680 w 71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ttangolo 14">
            <a:hlinkClick r:id="rId2"/>
          </p:cNvPr>
          <p:cNvSpPr/>
          <p:nvPr/>
        </p:nvSpPr>
        <p:spPr>
          <a:xfrm>
            <a:off x="406080" y="3214800"/>
            <a:ext cx="14580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PERSON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ttangolo 15">
            <a:hlinkClick r:id="rId3"/>
          </p:cNvPr>
          <p:cNvSpPr/>
          <p:nvPr/>
        </p:nvSpPr>
        <p:spPr>
          <a:xfrm>
            <a:off x="746640" y="5500800"/>
            <a:ext cx="17658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LABORA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ttangolo 16">
            <a:hlinkClick r:id="rId4"/>
          </p:cNvPr>
          <p:cNvSpPr/>
          <p:nvPr/>
        </p:nvSpPr>
        <p:spPr>
          <a:xfrm>
            <a:off x="2936160" y="357120"/>
            <a:ext cx="230688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DOCUMENT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ttangolo 17">
            <a:hlinkClick r:id="rId5"/>
          </p:cNvPr>
          <p:cNvSpPr/>
          <p:nvPr/>
        </p:nvSpPr>
        <p:spPr>
          <a:xfrm>
            <a:off x="7072200" y="2639880"/>
            <a:ext cx="192888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CONTROLLO DI QUA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ttangolo 18">
            <a:hlinkClick r:id="rId6"/>
          </p:cNvPr>
          <p:cNvSpPr/>
          <p:nvPr/>
        </p:nvSpPr>
        <p:spPr>
          <a:xfrm>
            <a:off x="6553080" y="642960"/>
            <a:ext cx="18846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MATERIE PR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ttangolo 19">
            <a:hlinkClick r:id="rId7"/>
          </p:cNvPr>
          <p:cNvSpPr/>
          <p:nvPr/>
        </p:nvSpPr>
        <p:spPr>
          <a:xfrm>
            <a:off x="6786720" y="4929120"/>
            <a:ext cx="170172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APPARECCHI ED UTENS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Freccia a destra con strisce 20"/>
          <p:cNvSpPr/>
          <p:nvPr/>
        </p:nvSpPr>
        <p:spPr>
          <a:xfrm rot="8083800">
            <a:off x="2285280" y="4837320"/>
            <a:ext cx="714240" cy="500400"/>
          </a:xfrm>
          <a:custGeom>
            <a:avLst/>
            <a:gdLst>
              <a:gd name="textAreaLeft" fmla="*/ 78120 w 714240"/>
              <a:gd name="textAreaRight" fmla="*/ 589320 w 714240"/>
              <a:gd name="textAreaTop" fmla="*/ 124920 h 500400"/>
              <a:gd name="textAreaBottom" fmla="*/ 375480 h 500400"/>
            </a:gdLst>
            <a:ahLst/>
            <a:rect l="textAreaLeft" t="textAreaTop" r="textAreaRight" b="textAreaBottom"/>
            <a:pathLst>
              <a:path w="714375" h="500062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Freccia a destra con strisce 21"/>
          <p:cNvSpPr/>
          <p:nvPr/>
        </p:nvSpPr>
        <p:spPr>
          <a:xfrm rot="2254200">
            <a:off x="5994000" y="4595400"/>
            <a:ext cx="714240" cy="500040"/>
          </a:xfrm>
          <a:custGeom>
            <a:avLst/>
            <a:gdLst>
              <a:gd name="textAreaLeft" fmla="*/ 781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reccia a destra con strisce 22"/>
          <p:cNvSpPr/>
          <p:nvPr/>
        </p:nvSpPr>
        <p:spPr>
          <a:xfrm rot="18444000">
            <a:off x="5987160" y="1113840"/>
            <a:ext cx="714240" cy="500040"/>
          </a:xfrm>
          <a:custGeom>
            <a:avLst/>
            <a:gdLst>
              <a:gd name="textAreaLeft" fmla="*/ 781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Freccia a destra con strisce 23"/>
          <p:cNvSpPr/>
          <p:nvPr/>
        </p:nvSpPr>
        <p:spPr>
          <a:xfrm rot="20874000">
            <a:off x="6242040" y="2715840"/>
            <a:ext cx="714240" cy="500040"/>
          </a:xfrm>
          <a:custGeom>
            <a:avLst/>
            <a:gdLst>
              <a:gd name="textAreaLeft" fmla="*/ 781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Freccia a destra con strisce 24"/>
          <p:cNvSpPr/>
          <p:nvPr/>
        </p:nvSpPr>
        <p:spPr>
          <a:xfrm rot="5400000">
            <a:off x="4107240" y="5036400"/>
            <a:ext cx="714600" cy="500040"/>
          </a:xfrm>
          <a:custGeom>
            <a:avLst/>
            <a:gdLst>
              <a:gd name="textAreaLeft" fmla="*/ 78120 w 714600"/>
              <a:gd name="textAreaRight" fmla="*/ 589680 w 7146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ttangolo 25">
            <a:hlinkClick r:id="rId8"/>
          </p:cNvPr>
          <p:cNvSpPr/>
          <p:nvPr/>
        </p:nvSpPr>
        <p:spPr>
          <a:xfrm>
            <a:off x="3357720" y="5857920"/>
            <a:ext cx="2286000" cy="642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ROCEDURE TECNOLOGI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ttangolo 16">
            <a:hlinkClick r:id="rId9"/>
          </p:cNvPr>
          <p:cNvSpPr/>
          <p:nvPr/>
        </p:nvSpPr>
        <p:spPr>
          <a:xfrm>
            <a:off x="96840" y="1500120"/>
            <a:ext cx="210996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Tahoma"/>
              </a:rPr>
              <a:t>INFORMATIZZ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Freccia a destra con strisce 18"/>
          <p:cNvSpPr/>
          <p:nvPr/>
        </p:nvSpPr>
        <p:spPr>
          <a:xfrm rot="12575400">
            <a:off x="2187720" y="1542240"/>
            <a:ext cx="714240" cy="500040"/>
          </a:xfrm>
          <a:custGeom>
            <a:avLst/>
            <a:gdLst>
              <a:gd name="textAreaLeft" fmla="*/ 781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714375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464344" y="125016"/>
                </a:lnTo>
                <a:lnTo>
                  <a:pt x="464344" y="0"/>
                </a:lnTo>
                <a:lnTo>
                  <a:pt x="714375" y="250032"/>
                </a:lnTo>
                <a:lnTo>
                  <a:pt x="464344" y="500063"/>
                </a:lnTo>
                <a:lnTo>
                  <a:pt x="464344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eafea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"/>
          <p:cNvSpPr/>
          <p:nvPr/>
        </p:nvSpPr>
        <p:spPr>
          <a:xfrm>
            <a:off x="108000" y="231840"/>
            <a:ext cx="89298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IBLIOGRAF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aratta F.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edicinali galenici:metodologie per garantire la qualità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Tesi di laurea sperimentale, 2006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aratta F.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ogetto per un laboratorio galenico ideal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tesi di master in Sistema Farmacia, Università di Pisa, Facoltà di Farmacia, luglio 200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eltramelli S.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boratorio della farmacia: procedure gestionali e tecnologich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Tesi di laurea sperimentale, 2006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. Brusa, F. Baratta “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ppunti di Legislazione Farmaceutica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”, Edizioni Cortina, I ed., 2012, ISBN 978888239174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. Brusa, F. Baratta “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ppunti di Tecnologia Farmaceutica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”, Edizioni Cortina, I ed., 2012, ISBN 978888239173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usa P., Gallarate M., Germano A. (2005) “Galenic Handbook” EAFP 2005 Annual Conference, Partnerships in education: science and practise”, Malta, 9-12 Marzo, p.23, O-020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usa P., Gallarate M., Germano A.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ontuario Galenico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SGI Editore, Torino, 2005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usa P., Germano A.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Prontuario Pratico di Galenica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CEA- Casa Editrice Ambrosiana, Milano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Brusa P., Germano A., Procedure Gestionali e Tecnologiche per il Laboratorio Galenico della Farmacia, 2007. Accreditate da parte della FOFI il 16/06/200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ircolare Federfarma n°182 del 20/5/1994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ariffa dei multipl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olombo P., Catellani P.L.,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Principi di tecnologie farmaceutich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CEA- Casa Editrice Ambrosiana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lano 2004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M 18/08/1993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pprovazione della tariffa nazionale per la vendita al pubblico dei medicinal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M 24/11/2006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odalità di trasmissione, da parte dei farmacisti, dei dati relativi alle quantità di principi attivi, appartenenti alle classi indicate nella lista dei farmaci e delle sostanze biologicamente o farmacologicamente attive e delle pratiche mediche, il cui impiego è considerato doping, ai sensi dell’articolo 2 della legge 14 dicembre 2000, n. 376, utilizzati nelle preparazioni estemporane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egge 14 dicembre 2000 n. 376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a della tutela sanitaria delle attivita' sportive e della lotta contro il dop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edicamenta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VII edizione, Cooperativa Farmaceutica, Milano 1996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Ministero della Salute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Farmacopea Ufficiale della Repubblica Italiana XII edi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Istituto Poligrafico dello Stato, Roma 2008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DM 26 febbraio 2010, approvazione delle “Integrazioni e correzioni alla XII edizione della Farmacopea Ufficiale della Repubblica italiana”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Ragazzi E.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Galenica Pratica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Libreria Internazionale Cortina, Padova, 2006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ww.sifap.org, 2006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CasellaDiTesto 1"/>
          <p:cNvSpPr/>
          <p:nvPr/>
        </p:nvSpPr>
        <p:spPr>
          <a:xfrm>
            <a:off x="2786040" y="1785960"/>
            <a:ext cx="385776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PROCEDURE IN PRAT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CasellaDiTesto 2"/>
          <p:cNvSpPr/>
          <p:nvPr/>
        </p:nvSpPr>
        <p:spPr>
          <a:xfrm>
            <a:off x="2563920" y="4143240"/>
            <a:ext cx="421344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se dovessi allestire delle cps rigid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Freccia in giù 3"/>
          <p:cNvSpPr/>
          <p:nvPr/>
        </p:nvSpPr>
        <p:spPr>
          <a:xfrm>
            <a:off x="4500720" y="32148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CasellaDiTesto 1"/>
          <p:cNvSpPr/>
          <p:nvPr/>
        </p:nvSpPr>
        <p:spPr>
          <a:xfrm>
            <a:off x="34920" y="142920"/>
            <a:ext cx="9072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1) </a:t>
            </a:r>
            <a:r>
              <a:rPr b="1" lang="it-IT" sz="1800" spc="-1" strike="noStrike">
                <a:solidFill>
                  <a:srgbClr val="7030a0"/>
                </a:solidFill>
                <a:latin typeface="Tahoma"/>
                <a:ea typeface="Tahoma"/>
              </a:rPr>
              <a:t>ACQUISTO DELLE MATERIE PR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ICARE L’IDONEITÀ DELLA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OCUMENTAZIONE INVIATA DAL FORNIT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a documentazione deve contenere le seguenti informazion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nominazione comune e/o nome chimico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quantità acquistata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provenienza e il nome del produttore (qualora il fornitore sia un rivenditore)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l lotto di produzione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data limite di utilizzazione/o di rititolazione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’identificazione dell’appartenenza allo stesso lotto di produzione di tutta la quantità di materia prima fornita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ertificato di analisi, datato e sottoscritto dal responsabile di qualità del produttore, che riporti la rispondenza ai requisiti di Farmacopea, la data di limite utilizzazione e/o rititolazione, le condizioni di conservazione e di manipolazione, le eventuali impurità presenti e la loro concentrazion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ROLLARE la corrispondenza degl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SPETTI ORGANOLETTIC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scritti sul certificato con quanto effettivamente pervenuto in farmaci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ffettuare eventuali controlli sulla materia prima e riportarne i risultati su un foglio da allegare al certificato di analis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dicare un numero di riferimento interno su ogni materia prima secondo il criterio adotta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accettazione o il rifiuto della materia prima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er allestire i preparati, riportante la data e la firma del farmacis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908600" y="671400"/>
            <a:ext cx="4092480" cy="5400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35000" y="671400"/>
            <a:ext cx="4079880" cy="5400720"/>
          </a:xfrm>
          <a:prstGeom prst="rect">
            <a:avLst/>
          </a:prstGeom>
          <a:ln w="0">
            <a:noFill/>
          </a:ln>
        </p:spPr>
      </p:pic>
      <p:sp>
        <p:nvSpPr>
          <p:cNvPr id="434" name="Freccia a destra con strisce 5"/>
          <p:cNvSpPr/>
          <p:nvPr/>
        </p:nvSpPr>
        <p:spPr>
          <a:xfrm>
            <a:off x="3857760" y="2928960"/>
            <a:ext cx="928440" cy="428760"/>
          </a:xfrm>
          <a:custGeom>
            <a:avLst/>
            <a:gdLst>
              <a:gd name="textAreaLeft" fmla="*/ 66960 w 928440"/>
              <a:gd name="textAreaRight" fmla="*/ 821520 w 9284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928688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714376" y="107156"/>
                </a:lnTo>
                <a:lnTo>
                  <a:pt x="714376" y="0"/>
                </a:lnTo>
                <a:lnTo>
                  <a:pt x="928688" y="214313"/>
                </a:lnTo>
                <a:lnTo>
                  <a:pt x="714376" y="428625"/>
                </a:lnTo>
                <a:lnTo>
                  <a:pt x="714376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ffe5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714240" y="54000"/>
            <a:ext cx="7635960" cy="6732720"/>
          </a:xfrm>
          <a:prstGeom prst="rect">
            <a:avLst/>
          </a:prstGeom>
          <a:ln w="0">
            <a:noFill/>
          </a:ln>
        </p:spPr>
      </p:pic>
      <p:sp>
        <p:nvSpPr>
          <p:cNvPr id="436" name="Rettangolo 3"/>
          <p:cNvSpPr/>
          <p:nvPr/>
        </p:nvSpPr>
        <p:spPr>
          <a:xfrm>
            <a:off x="3143160" y="0"/>
            <a:ext cx="328608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ttangolo 4"/>
          <p:cNvSpPr/>
          <p:nvPr/>
        </p:nvSpPr>
        <p:spPr>
          <a:xfrm>
            <a:off x="928800" y="571680"/>
            <a:ext cx="92844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CasellaDiTesto 5"/>
          <p:cNvSpPr/>
          <p:nvPr/>
        </p:nvSpPr>
        <p:spPr>
          <a:xfrm>
            <a:off x="2214720" y="662040"/>
            <a:ext cx="4572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DENOMINAZIONE COMUNE E NOME CHIM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ttangolo 6"/>
          <p:cNvSpPr/>
          <p:nvPr/>
        </p:nvSpPr>
        <p:spPr>
          <a:xfrm>
            <a:off x="928800" y="927000"/>
            <a:ext cx="61092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ttangolo 7"/>
          <p:cNvSpPr/>
          <p:nvPr/>
        </p:nvSpPr>
        <p:spPr>
          <a:xfrm>
            <a:off x="928800" y="3929040"/>
            <a:ext cx="936360" cy="144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CasellaDiTesto 8"/>
          <p:cNvSpPr/>
          <p:nvPr/>
        </p:nvSpPr>
        <p:spPr>
          <a:xfrm>
            <a:off x="2286000" y="37339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Tahoma"/>
              </a:rPr>
              <a:t>PRODUTT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ttangolo 9"/>
          <p:cNvSpPr/>
          <p:nvPr/>
        </p:nvSpPr>
        <p:spPr>
          <a:xfrm>
            <a:off x="928800" y="3749760"/>
            <a:ext cx="576000" cy="179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CasellaDiTesto 10"/>
          <p:cNvSpPr/>
          <p:nvPr/>
        </p:nvSpPr>
        <p:spPr>
          <a:xfrm>
            <a:off x="0" y="3643200"/>
            <a:ext cx="857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000"/>
                </a:solidFill>
                <a:latin typeface="Tahoma"/>
              </a:rPr>
              <a:t>LOT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ttangolo 11"/>
          <p:cNvSpPr/>
          <p:nvPr/>
        </p:nvSpPr>
        <p:spPr>
          <a:xfrm>
            <a:off x="928800" y="4081320"/>
            <a:ext cx="1331640" cy="14472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CasellaDiTesto 12"/>
          <p:cNvSpPr/>
          <p:nvPr/>
        </p:nvSpPr>
        <p:spPr>
          <a:xfrm>
            <a:off x="1643040" y="428616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7030a0"/>
                </a:solidFill>
                <a:latin typeface="Tahoma"/>
              </a:rPr>
              <a:t>DATA RITITO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ttangolo 13"/>
          <p:cNvSpPr/>
          <p:nvPr/>
        </p:nvSpPr>
        <p:spPr>
          <a:xfrm>
            <a:off x="1668600" y="3286080"/>
            <a:ext cx="4510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7575d1"/>
                </a:solidFill>
                <a:latin typeface="Tahoma"/>
              </a:rPr>
              <a:t>RISPONDENZA AI REQUISITI DI FARMACOP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ttangolo 14"/>
          <p:cNvSpPr/>
          <p:nvPr/>
        </p:nvSpPr>
        <p:spPr>
          <a:xfrm>
            <a:off x="928800" y="3392640"/>
            <a:ext cx="792000" cy="1792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ttangolo 15"/>
          <p:cNvSpPr/>
          <p:nvPr/>
        </p:nvSpPr>
        <p:spPr>
          <a:xfrm>
            <a:off x="2000160" y="1500120"/>
            <a:ext cx="5500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cc"/>
                </a:solidFill>
                <a:latin typeface="Tahoma"/>
              </a:rPr>
              <a:t>CONDIZIONI DI CONSERVAZIONE E DI MANIPOL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ttangolo 16"/>
          <p:cNvSpPr/>
          <p:nvPr/>
        </p:nvSpPr>
        <p:spPr>
          <a:xfrm>
            <a:off x="2857680" y="5357880"/>
            <a:ext cx="3357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b0f0"/>
                </a:solidFill>
                <a:latin typeface="Tahoma"/>
              </a:rPr>
              <a:t>EVENTUALI IMPURITÀ PRESENTI E LA LORO CONCENTR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50" name="Connettore 7 18"/>
          <p:cNvCxnSpPr/>
          <p:nvPr/>
        </p:nvCxnSpPr>
        <p:spPr>
          <a:xfrm rot="5400000">
            <a:off x="-73800" y="5786640"/>
            <a:ext cx="1859760" cy="2160"/>
          </a:xfrm>
          <a:prstGeom prst="curvedConnector5">
            <a:avLst>
              <a:gd name="adj1" fmla="val 49990"/>
              <a:gd name="adj2" fmla="val 40000"/>
              <a:gd name="adj3" fmla="val 49990"/>
            </a:avLst>
          </a:prstGeom>
          <a:ln w="28440">
            <a:solidFill>
              <a:srgbClr val="00b0f0"/>
            </a:solidFill>
            <a:miter/>
          </a:ln>
        </p:spPr>
      </p:cxnSp>
      <p:sp>
        <p:nvSpPr>
          <p:cNvPr id="451" name="Rettangolo 25"/>
          <p:cNvSpPr/>
          <p:nvPr/>
        </p:nvSpPr>
        <p:spPr>
          <a:xfrm>
            <a:off x="928800" y="1857240"/>
            <a:ext cx="971280" cy="144720"/>
          </a:xfrm>
          <a:prstGeom prst="rect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ttangolo 15"/>
          <p:cNvSpPr/>
          <p:nvPr/>
        </p:nvSpPr>
        <p:spPr>
          <a:xfrm>
            <a:off x="642960" y="2571840"/>
            <a:ext cx="3714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Tahoma"/>
              </a:rPr>
              <a:t>CARATTERISTICHE ORGANOLETTICH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Connettore 1 21"/>
          <p:cNvSpPr/>
          <p:nvPr/>
        </p:nvSpPr>
        <p:spPr>
          <a:xfrm flipH="1">
            <a:off x="926640" y="2071800"/>
            <a:ext cx="1800" cy="35712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asellaDiTesto 1"/>
          <p:cNvSpPr/>
          <p:nvPr/>
        </p:nvSpPr>
        <p:spPr>
          <a:xfrm>
            <a:off x="73080" y="71280"/>
            <a:ext cx="89996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3) </a:t>
            </a:r>
            <a:r>
              <a:rPr b="1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OPERAZIONI PRELIMINARI</a:t>
            </a:r>
            <a:r>
              <a:rPr b="0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ALL’ALLESTIMENTO DELLA PREPARAZI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rificare che l’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abbigl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a idoneo all’allestimento della preparazio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rificare che i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loc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ano puliti e idonei all’allestimento della preparazio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rificare che le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apparecchiatur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ano funzionanti, pulite ed idonee all’allestimento della preparazio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rificare che tutte le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materie prim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necessarie per l’allestimento della preparazione siano disponibili ed </a:t>
            </a:r>
            <a:r>
              <a:rPr b="1" lang="it-IT" sz="1600" spc="-1" strike="noStrike" u="sng">
                <a:solidFill>
                  <a:srgbClr val="008000"/>
                </a:solidFill>
                <a:uFillTx/>
                <a:latin typeface="Tahoma"/>
              </a:rPr>
              <a:t>in quantità suffici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rificare attraverso l’uso di </a:t>
            </a:r>
            <a:r>
              <a:rPr b="1" lang="it-IT" sz="1600" spc="-1" strike="noStrike" u="sng">
                <a:solidFill>
                  <a:srgbClr val="008000"/>
                </a:solidFill>
                <a:uFillTx/>
                <a:latin typeface="Tahoma"/>
              </a:rPr>
              <a:t>testi scientific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le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caratteristiche chimico-fisiche delle singole materie prime ed eventuali incompatibi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altre sostanze utilizzate nella preparazion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4) leggere quanto riportato dalla </a:t>
            </a:r>
            <a:r>
              <a:rPr b="1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PROCEDURA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inerente l’</a:t>
            </a:r>
            <a:r>
              <a:rPr b="1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ALLESTIMENTO DI CPS RIGI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5) </a:t>
            </a:r>
            <a:r>
              <a:rPr b="1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ALLESTIRE LE CPS E VALUTARNE LA DATA LIMITE DI UTILIZ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procedere alla compilazione della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  <a:ea typeface="Tahoma"/>
              </a:rPr>
              <a:t>SCHEDA DI PREPAR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procedere alla compilazione del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  <a:ea typeface="Tahoma"/>
              </a:rPr>
              <a:t>FOGLIO DI ALLESTI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procedere alla compilazione dell’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  <a:ea typeface="Tahoma"/>
              </a:rPr>
              <a:t>ETICHET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6) procedere al </a:t>
            </a:r>
            <a:r>
              <a:rPr b="1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CONTROLLO DI QUALITÀ</a:t>
            </a:r>
            <a:r>
              <a:rPr b="0" lang="it-IT" sz="1600" spc="-1" strike="noStrike">
                <a:solidFill>
                  <a:srgbClr val="7030a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della preparazione allestita (N.B. Il controllo finale dovrà essere eseguito da una persona diversa da quella che ha effettuato la preparazio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5)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AZIONI DA ESEGUIRE </a:t>
            </a:r>
            <a:r>
              <a:rPr b="1" lang="it-IT" sz="1600" spc="-1" strike="noStrike">
                <a:solidFill>
                  <a:srgbClr val="7030a0"/>
                </a:solidFill>
                <a:latin typeface="Tahoma"/>
              </a:rPr>
              <a:t>IN SEGUITO ALL’ALLESTIMENTO</a:t>
            </a:r>
            <a:r>
              <a:rPr b="0" lang="it-IT" sz="16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LA PREPAR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rificare che le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procedur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ano state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seguite correttament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base alla via di somministrazione del medicinale allestito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valutarne e correggerne le caratteristiche organolettich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rocedere al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riordin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d alla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puliz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i locali e delle apparecchiature utilizza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servare la documentazione relativa alla preparazione allestita in base a quanto previsto dalla procedura “Archiviazione e conservazione della documentazione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Freccia a destra con strisce 9"/>
          <p:cNvSpPr/>
          <p:nvPr/>
        </p:nvSpPr>
        <p:spPr>
          <a:xfrm>
            <a:off x="6143760" y="3429000"/>
            <a:ext cx="642960" cy="285840"/>
          </a:xfrm>
          <a:custGeom>
            <a:avLst/>
            <a:gdLst>
              <a:gd name="textAreaLeft" fmla="*/ 44640 w 642960"/>
              <a:gd name="textAreaRight" fmla="*/ 571680 w 64296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642938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500063" y="71438"/>
                </a:lnTo>
                <a:lnTo>
                  <a:pt x="500063" y="0"/>
                </a:lnTo>
                <a:lnTo>
                  <a:pt x="642938" y="142875"/>
                </a:lnTo>
                <a:lnTo>
                  <a:pt x="500063" y="285750"/>
                </a:lnTo>
                <a:lnTo>
                  <a:pt x="500063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e5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" name="Gruppo 8"/>
          <p:cNvGrpSpPr/>
          <p:nvPr/>
        </p:nvGrpSpPr>
        <p:grpSpPr>
          <a:xfrm>
            <a:off x="357120" y="1741320"/>
            <a:ext cx="8423280" cy="4902480"/>
            <a:chOff x="357120" y="1741320"/>
            <a:chExt cx="8423280" cy="4902480"/>
          </a:xfrm>
        </p:grpSpPr>
        <p:sp>
          <p:nvSpPr>
            <p:cNvPr id="457" name="Freccia a destra rientrata 2"/>
            <p:cNvSpPr/>
            <p:nvPr/>
          </p:nvSpPr>
          <p:spPr>
            <a:xfrm>
              <a:off x="6064200" y="3454560"/>
              <a:ext cx="428400" cy="285480"/>
            </a:xfrm>
            <a:custGeom>
              <a:avLst/>
              <a:gdLst>
                <a:gd name="textAreaLeft" fmla="*/ 71280 w 428400"/>
                <a:gd name="textAreaRight" fmla="*/ 357120 w 428400"/>
                <a:gd name="textAreaTop" fmla="*/ 71280 h 285480"/>
                <a:gd name="textAreaBottom" fmla="*/ 21420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4400" y="5400"/>
                  </a:ln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14400" y="16200"/>
                  </a:lnTo>
                  <a:lnTo>
                    <a:pt x="0" y="16200"/>
                  </a:lnTo>
                  <a:lnTo>
                    <a:pt x="36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58" name="Picture 2" descr="visualizzazione dati di un lotto"/>
            <p:cNvPicPr/>
            <p:nvPr/>
          </p:nvPicPr>
          <p:blipFill>
            <a:blip r:embed="rId1"/>
            <a:stretch/>
          </p:blipFill>
          <p:spPr>
            <a:xfrm>
              <a:off x="357120" y="2598120"/>
              <a:ext cx="8423280" cy="40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Ovale 4"/>
            <p:cNvSpPr/>
            <p:nvPr/>
          </p:nvSpPr>
          <p:spPr>
            <a:xfrm>
              <a:off x="5492880" y="5240520"/>
              <a:ext cx="857160" cy="12859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Freccia in giù 5"/>
            <p:cNvSpPr/>
            <p:nvPr/>
          </p:nvSpPr>
          <p:spPr>
            <a:xfrm rot="19109400">
              <a:off x="3682800" y="1265400"/>
              <a:ext cx="428400" cy="4919760"/>
            </a:xfrm>
            <a:prstGeom prst="downArrow">
              <a:avLst>
                <a:gd name="adj1" fmla="val 15519"/>
                <a:gd name="adj2" fmla="val 66671"/>
              </a:avLst>
            </a:prstGeom>
            <a:solidFill>
              <a:srgbClr val="eafea0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Freccia angolare in su 7"/>
            <p:cNvSpPr/>
            <p:nvPr/>
          </p:nvSpPr>
          <p:spPr>
            <a:xfrm rot="5400000">
              <a:off x="5421600" y="454680"/>
              <a:ext cx="1069920" cy="4357800"/>
            </a:xfrm>
            <a:custGeom>
              <a:avLst/>
              <a:gdLst>
                <a:gd name="textAreaLeft" fmla="*/ 0 w 1069920"/>
                <a:gd name="textAreaRight" fmla="*/ 899640 w 1069920"/>
                <a:gd name="textAreaTop" fmla="*/ 4296600 h 4357800"/>
                <a:gd name="textAreaBottom" fmla="*/ 4358160 h 4357800"/>
              </a:gdLst>
              <a:ahLst/>
              <a:rect l="textAreaLeft" t="textAreaTop" r="textAreaRight" b="textAreaBottom"/>
              <a:pathLst>
                <a:path w="1070090" h="4358063">
                  <a:moveTo>
                    <a:pt x="0" y="4296736"/>
                  </a:moveTo>
                  <a:lnTo>
                    <a:pt x="838185" y="4296736"/>
                  </a:lnTo>
                  <a:lnTo>
                    <a:pt x="838185" y="267523"/>
                  </a:lnTo>
                  <a:lnTo>
                    <a:pt x="667608" y="267523"/>
                  </a:lnTo>
                  <a:lnTo>
                    <a:pt x="868849" y="0"/>
                  </a:lnTo>
                  <a:lnTo>
                    <a:pt x="1070090" y="267523"/>
                  </a:lnTo>
                  <a:lnTo>
                    <a:pt x="899512" y="267523"/>
                  </a:lnTo>
                  <a:lnTo>
                    <a:pt x="899512" y="4358063"/>
                  </a:lnTo>
                  <a:lnTo>
                    <a:pt x="0" y="4358063"/>
                  </a:lnTo>
                  <a:close/>
                </a:path>
              </a:pathLst>
            </a:custGeom>
            <a:solidFill>
              <a:srgbClr val="eafea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2484360" y="98280"/>
            <a:ext cx="4489200" cy="52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  <a:ea typeface="Tahoma"/>
              </a:rPr>
              <a:t>IBUPROFENE cps 300 m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80880" y="868320"/>
            <a:ext cx="83059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Costo per la farmacia per l’allestimento di 25 confezioni da 12 c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Costi di gestione = X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300 opercoli: 300 x 0,0035 € = 1,05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Amido: 39 g x 0,00266 €/g = 0,10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Ibuprofene: 90 g x 0,029 €/g = 2,61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174320" y="2154600"/>
            <a:ext cx="35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TOT: 3,76 € + costi di gestione X €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424800" y="2516760"/>
            <a:ext cx="666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Costo per il paziente per l’acquisto di una confezione da 12 c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STAN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Ibuprofene: 300 mg x 12 cps = 3,6 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3,6 g x 0,058 €/g = 0,21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Amido: 130 mg x 12 cps = 1,56 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1,56 g x 0,00532 €/g = 0,01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TOT sostanze = 0,22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NORARIO PROFESSIONALE (calcolato in base alla tariffa dei galenici multipl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1,29 € diritto fis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- 0,08 € per 1 cps: 0,08 x 12 = 0,96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TOT onorario = 2,25 €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1113480" y="5312880"/>
            <a:ext cx="497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TOT spesa per il paziente: 0,22 € + 2,25 € = 2,47 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66560" y="2276640"/>
            <a:ext cx="576360" cy="142560"/>
          </a:xfrm>
          <a:prstGeom prst="rightArrow">
            <a:avLst>
              <a:gd name="adj1" fmla="val 50000"/>
              <a:gd name="adj2" fmla="val 1010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324000" y="5437080"/>
            <a:ext cx="576000" cy="142920"/>
          </a:xfrm>
          <a:prstGeom prst="rightArrow">
            <a:avLst>
              <a:gd name="adj1" fmla="val 50000"/>
              <a:gd name="adj2" fmla="val 1007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5871960" y="609516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  <a:ea typeface="Tahoma"/>
              </a:rPr>
              <a:t>… 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  <a:ea typeface="Tahoma"/>
              </a:rPr>
              <a:t>SUFFICIEN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78200" y="54288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Tahoma"/>
                <a:ea typeface="Tahoma"/>
              </a:rPr>
              <a:t>RESPONSABILIT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44360" y="155088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Il farmacista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  <a:ea typeface="Tahoma"/>
              </a:rPr>
              <a:t>titolare/direttore è il responsabile genera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ed ha le seguenti responsabilità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28760" y="2862360"/>
            <a:ext cx="82864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definire gl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biettiv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e la politica della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assicurare 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isorse necessari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per garantire la 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fare in modo che le attività d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epar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vendit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non si ostacolino a vic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assegnare le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responsabil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per le attività crit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controllare periodicamente i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280" y="2676240"/>
            <a:ext cx="769140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54936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0" y="1143000"/>
            <a:ext cx="9144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COSTI FISSI E COSTI VARIABIL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Il caso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Laboratorio Galenico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rof. P.P. Bianc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360" y="41904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La valutazione dell’opportunit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0920" y="1855800"/>
            <a:ext cx="84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genze di differenziazione dell’offerta commerciale alla cliente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idelizzazione del cliente ai “prodotti della farmacia” anziché a quelli di marc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duzione di medicinali personalizzati in base a specifiche esigen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venienza di natura econo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08000" y="685800"/>
            <a:ext cx="892800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produzione personalizzata di medicinali si realizza nel caso in cu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a necessario un dosaggio non in commerci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siano reperibili o, comunque, difficilmente reperibil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ano instabil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ossano associare due o più principi attiv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voglia cambiare la forma farmaceutic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a necessario variare gli eccipien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95280" y="920880"/>
            <a:ext cx="84582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NALISI PREZZI-COSTI-VOLU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ISI  PROPEDEUTICA AL BUDG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CERCA DEL VOLUME DI PAREG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CERCA DEL VOLUME CORRISPONDENTE AD UN CERTO RISULTATO ECONOM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ERA FUNZIONE DELL’ANALISI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SIMULARE L’IMPATTO SUL PROFITTO DELLE SUE VARIAB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ANALISI CON PRODUZIONE DIVERSIFICATA E RICERCA DEL FATTURATO DI PAREG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Line 3"/>
          <p:cNvSpPr/>
          <p:nvPr/>
        </p:nvSpPr>
        <p:spPr>
          <a:xfrm>
            <a:off x="1547640" y="260280"/>
            <a:ext cx="208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4"/>
          <p:cNvSpPr/>
          <p:nvPr/>
        </p:nvSpPr>
        <p:spPr>
          <a:xfrm>
            <a:off x="1558800" y="1469880"/>
            <a:ext cx="23655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5"/>
          <p:cNvSpPr/>
          <p:nvPr/>
        </p:nvSpPr>
        <p:spPr>
          <a:xfrm flipV="1">
            <a:off x="1547640" y="549000"/>
            <a:ext cx="1584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455760" y="550800"/>
            <a:ext cx="107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STI TOT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3419640" y="143676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OLUME PRODU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276720" y="40464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 = b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2700360" y="19890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STI FIS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6227640" y="407880"/>
            <a:ext cx="28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STI VARIABILI TOTALI = COSTO VARIABILE UNITARIO X VOLUME PRODU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11"/>
          <p:cNvSpPr/>
          <p:nvPr/>
        </p:nvSpPr>
        <p:spPr>
          <a:xfrm flipH="1">
            <a:off x="1568160" y="2133720"/>
            <a:ext cx="5076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1560600" y="348768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66840" y="2416320"/>
            <a:ext cx="107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STI TOT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602160" y="345276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OLUME PRODU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1563840" y="2844720"/>
            <a:ext cx="17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3363840" y="270180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 =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17"/>
          <p:cNvSpPr/>
          <p:nvPr/>
        </p:nvSpPr>
        <p:spPr>
          <a:xfrm flipH="1" flipV="1">
            <a:off x="3962520" y="3344760"/>
            <a:ext cx="46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18"/>
          <p:cNvSpPr/>
          <p:nvPr/>
        </p:nvSpPr>
        <p:spPr>
          <a:xfrm>
            <a:off x="3656160" y="3079800"/>
            <a:ext cx="66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.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6121440" y="2525760"/>
            <a:ext cx="29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TTENZIONE                                                                             COSTO DEL LAVORO DEL LABORATORIO GALEN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2728800" y="4428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STI VARIAB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1619280" y="4076640"/>
            <a:ext cx="58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STI “MISTI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0"/>
          <p:cNvSpPr/>
          <p:nvPr/>
        </p:nvSpPr>
        <p:spPr>
          <a:xfrm>
            <a:off x="1403280" y="4005360"/>
            <a:ext cx="0" cy="17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1"/>
          <p:cNvSpPr/>
          <p:nvPr/>
        </p:nvSpPr>
        <p:spPr>
          <a:xfrm flipV="1">
            <a:off x="1403280" y="5732280"/>
            <a:ext cx="230508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324000" y="436572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STI TOT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3780000" y="551664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OLUME PRODU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4"/>
          <p:cNvSpPr/>
          <p:nvPr/>
        </p:nvSpPr>
        <p:spPr>
          <a:xfrm flipV="1">
            <a:off x="1403280" y="4508640"/>
            <a:ext cx="20890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3348000" y="450864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 = a + b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71280" y="6245280"/>
            <a:ext cx="306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STI SEMI-VARIABILI =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TOT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2987640" y="6203880"/>
            <a:ext cx="189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STI FIS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TOT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4726080" y="6259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7245360" y="62373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7516800" y="6172200"/>
            <a:ext cx="15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VOLUME PRODU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4932360" y="6129360"/>
            <a:ext cx="2376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STO VARIABILE UNI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34920" y="44280"/>
            <a:ext cx="908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RAFICO DEL PUNTO DI PAREGG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BREAK-EVEN POI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1898640" y="12682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4"/>
          <p:cNvSpPr/>
          <p:nvPr/>
        </p:nvSpPr>
        <p:spPr>
          <a:xfrm>
            <a:off x="1898640" y="3859200"/>
            <a:ext cx="44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5"/>
          <p:cNvSpPr/>
          <p:nvPr/>
        </p:nvSpPr>
        <p:spPr>
          <a:xfrm flipV="1">
            <a:off x="1898640" y="1877760"/>
            <a:ext cx="305424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1898640" y="2487600"/>
            <a:ext cx="297180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7"/>
          <p:cNvSpPr/>
          <p:nvPr/>
        </p:nvSpPr>
        <p:spPr>
          <a:xfrm>
            <a:off x="3384720" y="287820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8"/>
          <p:cNvSpPr/>
          <p:nvPr/>
        </p:nvSpPr>
        <p:spPr>
          <a:xfrm flipH="1">
            <a:off x="1898640" y="286848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4846680" y="2332080"/>
            <a:ext cx="42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4912200" y="16509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395280" y="1733400"/>
            <a:ext cx="14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CAVI E COSTI TOT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6232680" y="391644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2095560" y="3954600"/>
            <a:ext cx="24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OLUME DI PAREGG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108000" y="448452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I HA VOLUME DI PAREGGIO (B.E.P.) QUANDO: RT = 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452520" y="527040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iderando che CT = costi fissi e costi variab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T = fattur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166680" y="632952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OE’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00080" y="628668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atturato (RT) = Costi totali (costi fissi e costi variabil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399960" y="260280"/>
            <a:ext cx="84200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VOLUME DI PAREGGIO PERTANTO E’ DATO DA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1316160" y="201456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2471760" y="1873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3348000" y="1844640"/>
            <a:ext cx="56516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COSTI FISS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MARGINE LORDO DI CONTRIBUZIONE UNITARI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411280" y="328464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iderando “u” (utile atteso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179280" y="498312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NTRE IL “VOLUME DI UTILE” ATTESO E’ DATO 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1698480" y="58053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2889360" y="563868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+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2195640" y="230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 -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12"/>
          <p:cNvSpPr/>
          <p:nvPr/>
        </p:nvSpPr>
        <p:spPr>
          <a:xfrm>
            <a:off x="2139840" y="230652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2792520" y="60930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 – 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14"/>
          <p:cNvSpPr/>
          <p:nvPr/>
        </p:nvSpPr>
        <p:spPr>
          <a:xfrm>
            <a:off x="2806560" y="609588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3807000" y="900000"/>
            <a:ext cx="21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x = a + b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3492360" y="3759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x = a + bx +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617400" y="114480"/>
            <a:ext cx="35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95400" y="708120"/>
            <a:ext cx="904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STI FISSI (costi di struttura, ammortamento) = 10.000 Eu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D. UNITARIO FISICO  = g 100/unità di prodo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D. UNITARIO DI PREZZO D’ACQUISTO  =  € 90/kg riso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ZZO UNITARIO DI VENDITA  = € 17/unità di prodo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66640" y="459576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1987560" y="436716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959120" y="48704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7 – €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211640" y="45291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4611600" y="4703760"/>
            <a:ext cx="23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059440" y="433404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530680" y="476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179280" y="5575320"/>
            <a:ext cx="94107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. 1.250 unità di prodot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raggiungere il pareggio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1309680" y="472752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4" descr=""/>
          <p:cNvPicPr/>
          <p:nvPr/>
        </p:nvPicPr>
        <p:blipFill>
          <a:blip r:embed="rId1"/>
          <a:stretch/>
        </p:blipFill>
        <p:spPr>
          <a:xfrm>
            <a:off x="3216240" y="2997360"/>
            <a:ext cx="2305080" cy="10191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6967440" y="45165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3309840" y="1795320"/>
            <a:ext cx="2714760" cy="10573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2"/>
          <p:cNvSpPr/>
          <p:nvPr/>
        </p:nvSpPr>
        <p:spPr>
          <a:xfrm>
            <a:off x="500040" y="71280"/>
            <a:ext cx="883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DDITO ATTESO DETERMINATO COSI’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 REDDITIVITA’ DEL CAPITALE ATTESA: 1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 VALORE MEDIO DEL CAPITALE NEL PERIODO: € 10.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30120" y="37544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4"/>
          <p:cNvSpPr/>
          <p:nvPr/>
        </p:nvSpPr>
        <p:spPr>
          <a:xfrm>
            <a:off x="1155600" y="3965400"/>
            <a:ext cx="388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403280" y="33973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000 + € 1.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39840" y="397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6140520" y="39736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5783400" y="35323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€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.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03320" y="4970520"/>
            <a:ext cx="88614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n.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.40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unità per raggiungere la redditività att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ottenere la redditività attesa occorre produrre 150 unità di prodotto in più rispetto al volume di paregg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5530680" y="3981600"/>
            <a:ext cx="23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5283360" y="37670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79280" y="142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VERA FUNZIONE DELLA ANALISI DEL B.E.P. NON E’ TANTO CERCARE IL VOLUME DI PAREGGIO, BENSÌ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50920" y="19684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ALUTARE IN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NTICIP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MPATTO SUL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ROFI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QUEST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VARIABIL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 O COME MANOVRARLE IN VISTA DI UN CERTO PROFITT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971640" y="3073320"/>
            <a:ext cx="75438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ZZO DI VEND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PACITA’ “ E “PROGRAMM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FFICIENZA INTER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ZZI DI ACQUI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0" y="56325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mic Sans MS"/>
              </a:rPr>
              <a:t>E’ UNO STRUMENTO DI SIMULAZIONE ECONOMIC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357280" y="7142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Arial"/>
              </a:rPr>
              <a:t>PIANIFICAZI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57120" y="2000160"/>
            <a:ext cx="8496360" cy="192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ianificazione deve interessar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utti i livelli dell’attiv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dal magazzino all’archi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fficacie pianificazione permette d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ispondere a richieste difficilmente programma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CasellaDiTesto 3"/>
          <p:cNvSpPr/>
          <p:nvPr/>
        </p:nvSpPr>
        <p:spPr>
          <a:xfrm>
            <a:off x="1643040" y="5068800"/>
            <a:ext cx="5643720" cy="368280"/>
          </a:xfrm>
          <a:prstGeom prst="rect">
            <a:avLst/>
          </a:prstGeom>
          <a:solidFill>
            <a:srgbClr val="ffe5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GESTIONE INFORMATIZZATA DEL MAGAZZ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ccia a destra con strisce 5"/>
          <p:cNvSpPr/>
          <p:nvPr/>
        </p:nvSpPr>
        <p:spPr>
          <a:xfrm rot="5400000">
            <a:off x="4000320" y="4295880"/>
            <a:ext cx="857520" cy="428400"/>
          </a:xfrm>
          <a:custGeom>
            <a:avLst/>
            <a:gdLst>
              <a:gd name="textAreaLeft" fmla="*/ 66960 w 857520"/>
              <a:gd name="textAreaRight" fmla="*/ 750600 w 8575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85725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642938" y="107156"/>
                </a:lnTo>
                <a:lnTo>
                  <a:pt x="642938" y="0"/>
                </a:lnTo>
                <a:lnTo>
                  <a:pt x="857250" y="214313"/>
                </a:lnTo>
                <a:lnTo>
                  <a:pt x="642938" y="428625"/>
                </a:lnTo>
                <a:lnTo>
                  <a:pt x="64293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ffe5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849240" y="25560"/>
            <a:ext cx="75121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EMPI DI SIMU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vedi dati numerici precedent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0" y="971640"/>
            <a:ext cx="916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 QUANTO AMMONTA IL VOLUME DI PAREGGIO SE L’AZIENDA PEGGIORA LA SUA EFFICIENZA INTERNA DEL 10%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214200" y="29973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Xp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239840" y="2813040"/>
            <a:ext cx="47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.0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826920" y="321300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€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7 – € 9,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3197160" y="3000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4043520" y="2813040"/>
            <a:ext cx="47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.0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3962520" y="32446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€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7,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0" y="414036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E PROFITTO OTTIENE L’AZIENDA SE RIDIMENSIONA LA SUA “CAPACITA’” DEL 10% IN TERMINI ECONOMICI E PRODUCE IL VOLUME DI 1.800  DI UNITA’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1476360" y="525312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.800     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2700360" y="5445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2916360" y="5024520"/>
            <a:ext cx="47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9.000 + 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1547640" y="602136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 = (€ 1800*8) – 9.000 = €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5.4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16"/>
          <p:cNvSpPr/>
          <p:nvPr/>
        </p:nvSpPr>
        <p:spPr>
          <a:xfrm>
            <a:off x="952560" y="3192480"/>
            <a:ext cx="21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Line 17"/>
          <p:cNvSpPr/>
          <p:nvPr/>
        </p:nvSpPr>
        <p:spPr>
          <a:xfrm>
            <a:off x="3635280" y="3214800"/>
            <a:ext cx="17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381480" y="5445000"/>
            <a:ext cx="25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Picture 14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304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24000" y="142920"/>
            <a:ext cx="84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 QUANTO DOVREBBE AUMENTARE IL PREZZO DI VENDITA PER PORTARE IL VOLUME DI PAREGGIO A 1.100 UNITA’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2349360" y="2298600"/>
            <a:ext cx="33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.100   =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3381480" y="2494080"/>
            <a:ext cx="23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1960" y="2082960"/>
            <a:ext cx="14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970440" y="2481120"/>
            <a:ext cx="22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 - € 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666800" y="3019320"/>
            <a:ext cx="70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.100*p – 1.100*€ 9= € 10.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2133720" y="4025880"/>
            <a:ext cx="66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 =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2558880" y="4170240"/>
            <a:ext cx="23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2760840" y="3809880"/>
            <a:ext cx="26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9.9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2990880" y="4143240"/>
            <a:ext cx="22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.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2195640" y="5013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VREBBE AUMENTARE DE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,9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611280" y="597204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N.B: OVVIAMENTE DI TUTTE LE SOLUZIONI VA VERIFICATA LA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FATTIBILITA’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148360" y="4006800"/>
            <a:ext cx="28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 18  Euro circa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n precedenza 17 Eu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Picture 14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305080" cy="10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042920" y="241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LEMENTI DI RIFLESS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468360" y="1384200"/>
            <a:ext cx="824688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 costi e i ricavi presentano sempre un andamento linea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La produzione è sempre uguale alle vendit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Monoprodotto o multiprodott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Si possono manovrare i costi di struttur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osti fissi e costi variabili in alcuni casi sono difficili da individu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l costo del lavoro è un costo fisso o variabile? Il farmacista rimane sempre in laboratorio oppure nelle ore di punta o al bisogno si trasferisce dietro al banc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7) ………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14560" y="7858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Arial"/>
              </a:rPr>
              <a:t>DOCUMENTAZI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2920" y="2286000"/>
            <a:ext cx="88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armacia per tutte le sue attività (dalla pulizia del laboratorio all’allestimento di medicinali) deve utilizzare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PROCEDURE SCRIT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ttaglia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periodicament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ggior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procedure possono essere in form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elettron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artacea</a:t>
            </a:r>
            <a:r>
              <a:rPr b="0" lang="it-IT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’ultima obbligatoria per materie prime e preparazio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ed essere facilmente accessi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2:24:21Z</dcterms:created>
  <dc:creator>Brusa</dc:creator>
  <dc:description/>
  <dc:language>en-US</dc:language>
  <cp:lastModifiedBy>Master</cp:lastModifiedBy>
  <dcterms:modified xsi:type="dcterms:W3CDTF">2013-07-08T06:25:52Z</dcterms:modified>
  <cp:revision>357</cp:revision>
  <dc:subject/>
  <dc:title>Diapositiva 1</dc:title>
</cp:coreProperties>
</file>